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E58DE-BF19-4E26-B50A-26D6B1A42C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5F0F3-77CA-40C0-B9A0-787F8A28E93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B213B7-EB03-414C-BCBA-541CA4BF6D5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C6C133-F710-4A5D-884F-92CDD0BC588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3E5095-908C-434A-A48D-C41F6DE8144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97358E-F0F4-44FC-B3FF-21DA270BE80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B1993F-8C3F-4F3F-B216-F21DB56BFD6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950E95-BBAC-47E2-A933-9C506E3C096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7F52DF-3E84-410D-A89B-9A8552A87FE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EEE69F-09B3-4331-8BBF-1242C2675F9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B99419-A5F1-42F0-8322-3F59A234F4D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D95E6-3ADB-476B-BCEA-DE1F48AA72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06ADC-2AEB-45E5-BCB3-E298E3C2B1C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2990A-5057-4323-8F23-B6CC78A448B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D56DA-AE71-4CFD-BABA-A921972E3B7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69B09-F411-4DD5-8B31-17DBBF64251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FCEC5-1086-4A23-847A-F2B7AA6CF8D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50F77-3D30-4E47-8081-F5398F03497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D2C58-1B3E-48CA-95A2-99C9D96E1DF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24B7A-B4F1-45AC-9CBE-BB89ECD1780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722A1-524C-4351-A7C1-C1F2C057063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F0D9E-A3AA-461D-AD40-F720A2863DB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3EE7B-6556-4674-8BEF-9BAD5BF6A3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75A54-6D07-47C0-90CD-0A40F3FCDE0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1B478-391A-4FE5-BB4E-CD52AA945BF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DBE470-3F43-4294-BB60-D96E7B1E571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C3F2F0-707D-42AB-8BA8-7C1AE7100D8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00ABFE-63D6-4D28-8D9C-2F70A9F3115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E14BBD-B71F-41A7-9B4C-E51C4AA21B1A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1FF3C9-D385-490E-BC00-18A7B35BCA7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FC0F1C-6EA5-432F-8CEF-D90F4BF99DC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01BBA4-0889-4486-861D-831CDC0D1A9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C8034F-14C0-4AC1-AD54-2A6D81255C6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005D58-D3AC-4639-B006-ADEA78B1AB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57894E-8BBB-46E5-B63B-A3FA20F12B2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8027D6-92F0-4C1E-933D-1B6FD41C812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F1D024-2D85-4ABD-AD40-E6BA8D54FE6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8F2BF0-0D93-4137-9D64-3CAEF04DB02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746FE2-C8FE-4A63-BAE9-4D45BEBC1CE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5E87BE-0AF2-4FBF-A6F1-698BD1E85AD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B320DF-C69A-4D37-BFB9-D8C1AD7464F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F2201B-4137-4C02-8006-F803DBFF9BB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62F641-C9F6-463A-911D-F979B7354DB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E6E890-5F2B-40B5-8207-82625FC1EC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88BFA3-E43C-450B-B504-C00F2581662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19DC4C-D7E0-41A8-A474-5705A8BB447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7E52DA-5434-4B63-9DF9-55DC67108B1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C97E38-F1C0-40B6-880B-1248789FD9A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E56218-E26A-4921-86F3-45747F465D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1E07C-94F2-4A23-A41A-A2347D414E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3F68D-DBCA-4BF7-BC7C-EF191919B1B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522A3-84D6-4CD9-A799-17028A5E3B2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A3BF8-8818-45D2-AAE2-0643AA35F6B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0108B-FECD-4CC4-B226-50986157515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3B1D7-3F07-460A-BC08-FA758CF7B4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7B328-C757-4411-B3D7-2AC32BC0978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7CE8D-FF83-4BCA-8014-635D5FD9DAC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2C8DC-17C9-457D-BF6B-A3D33CEABF4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D1034-2A2C-4783-ADE5-5EBC560E88F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A60E0-AF75-4196-96E1-8CD588F4C85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6A15F-40B7-4A3B-8B86-0306ABB5A08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D3204-028E-4FE8-8F8B-0450B076AFD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1AFCA-9D8B-4F63-A241-53B3867158B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F809-FDAF-4A4C-BBDC-B67EEDB48CE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44DB-25E7-4749-856F-1178E69AE6D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D95D-DE91-491E-813B-1065D0A5CD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55F38-10B1-44BC-920E-ACDF5DB7660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CF3C-DBEA-4102-BC83-6454BF53957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3EC4-A408-47DA-B058-871D69F3F84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D28C-B3FF-4A42-8280-0505F440D73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5CDE-1430-45B9-A370-814E8F613B3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792C-58EC-48A7-BDBD-7423DD7AEE9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D697-B41E-4726-B4C2-E16D402B68A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1A14-A030-470D-BEDA-6FAFE258DD3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D6FA-6515-42C2-9A9B-87A32CF6671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B37C-0BA7-4B66-9A23-5820F0DACC2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6FDED-F306-4407-AF73-C344E8663D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7074E-E4F4-4113-A738-EE70D5C7F81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887D8-0528-4BD7-B57F-0DBDCE55A97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1811A-4430-455A-A6AD-2413E968998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EB44A-F7A8-49EE-B601-4B00C6A3E5F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FC1A0-7819-42C2-ADFB-75F72B9E532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A96FD-0492-4996-B438-1D6E5FF510B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12A91-01DC-473F-BAD5-8AA85A021B1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30968-E777-42A2-952B-6727BFE518E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453C7-B2D1-4588-8BB5-4959A31269F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820A28-A9FE-41BA-B48C-B58DDDA56F8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8CAFC-CA13-4444-AD52-FBEC73CB0F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5B4D0-72CD-4899-BFF4-03CBD0410F7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B7299-7919-4071-8A70-C81FAAE1F93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F93C4-06A3-48A5-BF5E-32ECDFF339D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1815E-57A1-4F7A-9C4D-1CC5004FA9F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CE4E5-5658-4BD5-8EE0-87705D25A8F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AA4E3-4C35-4AD0-A44E-1EC5BD455E1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F98E7-7DAC-4E8C-98EA-97CB7AE245A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4FAD2-970F-4423-9680-D8063540448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1BC1F-90E2-4017-88B6-0DE82D8F7AC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53553F-E8ED-4AA4-BE43-B6B3A37F6EC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974B2-684F-4D99-B123-08D7FC4A00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52AEF-A8FA-498F-83A8-E7DFA124525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63B40-BBF1-4E86-83DD-7E662B9E5EC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493A2-70F1-44B0-ACDB-1E6A31A5834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475BD-129B-4905-837C-E66436D0A77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9866-0AAA-4108-A05E-CC39498F1D3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AFD1-7FCF-41FD-9E31-42500D4D582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3E08-5E12-4D89-B7FC-C7C0B0AAF34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3842-DCF3-4BD1-8586-D3F7B720B3B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909A-2AB5-4486-949B-19EC2F53E4E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493C-C27F-4C7C-B6F7-1C50BB37953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7473-D652-4875-90C2-A79ECDCB7B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CD9E7-FEC4-4B5A-A4D6-5058EE03CC7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7DDC-7B48-4F84-A893-FAAA1E1349A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6BEC-42CE-40D1-A4F0-83F383B2D83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7414-77F7-445C-93F3-46AEF2C3488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67E5-9E71-404C-BD34-4E3AC94ACBB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8AA7-7F5D-46FA-9117-EFB98A977B2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8273BA-0758-4CEB-9F25-6B70A446468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913AFA-808D-431D-ABB9-41F2D2AABEC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FD7A96-EFB5-45C2-8BFD-29A1306F5BF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E73FC9-01D3-4A5A-B1D0-FE211064D48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EB2A6E-B5FD-487C-9193-DFFC4D6D1E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F5333-ADD3-4B1E-A6B6-F245276ECBE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2A6E03-3933-4CD8-A7AE-9089C868837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304E4E-1438-46B7-AB5B-4735346103A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8E3652-E5BE-466E-A8EE-7481F040202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5C59D6-9172-4F92-9DC1-A3633687915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09480" y="374040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7CE890-DBAE-4106-A375-78C547544B4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31400" y="914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31400" y="374040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F49D9D-6E29-4D2D-8905-309ED8B3D0F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6340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917320" y="914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0948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6340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917320" y="374040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C8E853-B025-4EA1-8B27-5AD9E362E2D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D16F9B-C888-4655-9339-B07BA6E633C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8D6C71-78F3-4127-9DF7-A20D7AE8656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5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237EBF-D6E8-4E82-BAE5-DA2BC42887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2599"/>
              </a:lnSpc>
              <a:buClr>
                <a:srgbClr val="003399"/>
              </a:buClr>
              <a:buSzPct val="5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D841-1F42-425A-91C3-469A708A1FB3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2599"/>
              </a:lnSpc>
              <a:buClr>
                <a:srgbClr val="003399"/>
              </a:buClr>
              <a:buSzPct val="5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Num" idx="9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2C8A-84F7-4184-9125-B350A5ECBDA5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2599"/>
              </a:lnSpc>
              <a:buClr>
                <a:srgbClr val="003399"/>
              </a:buClr>
              <a:buSzPct val="5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Num" idx="10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1C2B-FF7D-4DF8-89F5-6E3CD8123F97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2599"/>
              </a:lnSpc>
              <a:buClr>
                <a:srgbClr val="003399"/>
              </a:buClr>
              <a:buSzPct val="5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1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AA52-1CA5-4616-BD24-87DA80CB2723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0" y="6613560"/>
            <a:ext cx="9144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ntroduction to Computer Science   •   Robert Sedgewick and Kevin Wayne   •   Copyright © 2006   •   http://www.cs.Princeton.EDU/IntroC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2599"/>
              </a:lnSpc>
              <a:buClr>
                <a:srgbClr val="003399"/>
              </a:buClr>
              <a:buSzPct val="5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2599"/>
              </a:lnSpc>
              <a:buClr>
                <a:srgbClr val="003399"/>
              </a:buClr>
              <a:buSzPct val="5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55EA-3C8A-405B-8DB8-58259A71809B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2599"/>
              </a:lnSpc>
              <a:buClr>
                <a:srgbClr val="003399"/>
              </a:buClr>
              <a:buSzPct val="5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2F48-18B9-44B8-BCA6-FFD509237C16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2599"/>
              </a:lnSpc>
              <a:buClr>
                <a:srgbClr val="003399"/>
              </a:buClr>
              <a:buSzPct val="5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Num" idx="4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67D02-D89B-4F97-80B5-9756AFD63386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2599"/>
              </a:lnSpc>
              <a:buClr>
                <a:srgbClr val="003399"/>
              </a:buClr>
              <a:buSzPct val="5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5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1B06-5FE7-4F06-A3D1-FB33F1F914D1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2599"/>
              </a:lnSpc>
              <a:buClr>
                <a:srgbClr val="003399"/>
              </a:buClr>
              <a:buSzPct val="5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CC84-B70C-4873-88B1-0035796A190D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2599"/>
              </a:lnSpc>
              <a:buClr>
                <a:srgbClr val="003399"/>
              </a:buClr>
              <a:buSzPct val="5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7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70C2-550E-4353-8AC7-9AE79D2097C4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Comic Sans MS"/>
              </a:rPr>
              <a:t>Click to edit the title text format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2599"/>
              </a:lnSpc>
              <a:buClr>
                <a:srgbClr val="003399"/>
              </a:buClr>
              <a:buSzPct val="5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345960" indent="-231480">
              <a:lnSpc>
                <a:spcPts val="2599"/>
              </a:lnSpc>
              <a:buClr>
                <a:srgbClr val="000000"/>
              </a:buClr>
              <a:buSzPct val="3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2" marL="627120" indent="-166680">
              <a:lnSpc>
                <a:spcPts val="2599"/>
              </a:lnSpc>
              <a:buClr>
                <a:srgbClr val="000000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3" marL="1147680" indent="-404640">
              <a:lnSpc>
                <a:spcPts val="2599"/>
              </a:lnSpc>
              <a:buClr>
                <a:srgbClr val="000000"/>
              </a:buClr>
              <a:buFont typeface="Wing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4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5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6" marL="1539720" indent="-169560">
              <a:lnSpc>
                <a:spcPts val="2599"/>
              </a:lnSpc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Num" idx="8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2529-54EE-4592-8F25-A6B4BCA0E954}" type="slidenum">
              <a:rPr b="0" lang="en-US" sz="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Titlu 1" descr=""/>
          <p:cNvPicPr/>
          <p:nvPr/>
        </p:nvPicPr>
        <p:blipFill>
          <a:blip r:embed="rId1"/>
          <a:stretch/>
        </p:blipFill>
        <p:spPr>
          <a:xfrm>
            <a:off x="933480" y="792000"/>
            <a:ext cx="7223040" cy="1000440"/>
          </a:xfrm>
          <a:prstGeom prst="rect">
            <a:avLst/>
          </a:prstGeom>
          <a:ln w="0">
            <a:noFill/>
          </a:ln>
        </p:spPr>
      </p:pic>
      <p:pic>
        <p:nvPicPr>
          <p:cNvPr id="470" name="Subtitlu 2" descr=""/>
          <p:cNvPicPr/>
          <p:nvPr/>
        </p:nvPicPr>
        <p:blipFill>
          <a:blip r:embed="rId2"/>
          <a:stretch/>
        </p:blipFill>
        <p:spPr>
          <a:xfrm>
            <a:off x="1219320" y="1987560"/>
            <a:ext cx="7162560" cy="3780000"/>
          </a:xfrm>
          <a:prstGeom prst="rect">
            <a:avLst/>
          </a:prstGeom>
          <a:ln w="0">
            <a:noFill/>
          </a:ln>
        </p:spPr>
      </p:pic>
      <p:sp>
        <p:nvSpPr>
          <p:cNvPr id="471" name="Conector drept 6"/>
          <p:cNvSpPr/>
          <p:nvPr/>
        </p:nvSpPr>
        <p:spPr>
          <a:xfrm>
            <a:off x="1109520" y="1424160"/>
            <a:ext cx="6924960" cy="126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omic Sans MS"/>
              </a:rPr>
              <a:t>3.  </a:t>
            </a:r>
            <a:r>
              <a:rPr b="1" lang="ro-RO" sz="2000" spc="-1" strike="noStrike">
                <a:solidFill>
                  <a:srgbClr val="00b050"/>
                </a:solidFill>
                <a:latin typeface="Comic Sans MS"/>
              </a:rPr>
              <a:t>Căutarea binară (logaritmică)</a:t>
            </a: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530280" y="1306440"/>
            <a:ext cx="4178160" cy="424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#include &lt;fstream&gt;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#include &lt;iostream&gt;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using namespace std;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main ()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{int v[20],n=0,i,gasit,m,st,dr,x;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//creare vector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ifstream fin("vector_o.txt");   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while(!fin.eof()) fin&gt;&gt;v[n++]; 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in.close();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out&lt;&lt;"Nr. cautat: "; cin&gt;&gt;x;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621" name="Buton acțiune: Începere 3"/>
          <p:cNvGrpSpPr/>
          <p:nvPr/>
        </p:nvGrpSpPr>
        <p:grpSpPr>
          <a:xfrm>
            <a:off x="7589880" y="6083280"/>
            <a:ext cx="931680" cy="542880"/>
            <a:chOff x="7589880" y="6083280"/>
            <a:chExt cx="931680" cy="542880"/>
          </a:xfrm>
        </p:grpSpPr>
        <p:pic>
          <p:nvPicPr>
            <p:cNvPr id="622" name="Buton acțiune: Începere 3" descr="">
              <a:hlinkClick r:id="" action="ppaction://hlinkshowjump?jump=firstslide"/>
            </p:cNvPr>
            <p:cNvPicPr/>
            <p:nvPr/>
          </p:nvPicPr>
          <p:blipFill>
            <a:blip r:embed="rId1"/>
            <a:stretch/>
          </p:blipFill>
          <p:spPr>
            <a:xfrm>
              <a:off x="7589880" y="6083280"/>
              <a:ext cx="9316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7642080" y="6113520"/>
              <a:ext cx="8226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624" name="CasetăText 2"/>
          <p:cNvSpPr/>
          <p:nvPr/>
        </p:nvSpPr>
        <p:spPr>
          <a:xfrm>
            <a:off x="4419720" y="1407960"/>
            <a:ext cx="4451400" cy="46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gasit=0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t=0; dr=n-1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while (st&lt;=dr &amp;&amp; !gasit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{ m=(st+dr)/2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if (x==v[m]) gasit=1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else         if (x&lt;v[m]) dr=m-1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                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else        st=m+1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if(gasit) cout&lt;&lt;"Gasit pe pozitia "&lt;&lt;m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else      cout&lt;&lt;"Negasit!"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Substituent conținut 2" descr=""/>
          <p:cNvPicPr/>
          <p:nvPr/>
        </p:nvPicPr>
        <p:blipFill>
          <a:blip r:embed="rId1"/>
          <a:stretch/>
        </p:blipFill>
        <p:spPr>
          <a:xfrm>
            <a:off x="596880" y="1468440"/>
            <a:ext cx="7986600" cy="2695680"/>
          </a:xfrm>
          <a:prstGeom prst="rect">
            <a:avLst/>
          </a:prstGeom>
          <a:ln w="0">
            <a:noFill/>
          </a:ln>
        </p:spPr>
      </p:pic>
      <p:pic>
        <p:nvPicPr>
          <p:cNvPr id="473" name="Titlu 3" descr=""/>
          <p:cNvPicPr/>
          <p:nvPr/>
        </p:nvPicPr>
        <p:blipFill>
          <a:blip r:embed="rId2"/>
          <a:stretch/>
        </p:blipFill>
        <p:spPr>
          <a:xfrm>
            <a:off x="0" y="463680"/>
            <a:ext cx="9144000" cy="7556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4" descr=""/>
          <p:cNvPicPr/>
          <p:nvPr/>
        </p:nvPicPr>
        <p:blipFill>
          <a:blip r:embed="rId3"/>
          <a:stretch/>
        </p:blipFill>
        <p:spPr>
          <a:xfrm>
            <a:off x="596880" y="4343400"/>
            <a:ext cx="813420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"/>
          <p:cNvPicPr/>
          <p:nvPr/>
        </p:nvPicPr>
        <p:blipFill>
          <a:blip r:embed="rId1"/>
          <a:stretch/>
        </p:blipFill>
        <p:spPr>
          <a:xfrm>
            <a:off x="3995640" y="1376280"/>
            <a:ext cx="4962600" cy="1116000"/>
          </a:xfrm>
          <a:prstGeom prst="rect">
            <a:avLst/>
          </a:prstGeom>
          <a:ln w="0">
            <a:noFill/>
          </a:ln>
        </p:spPr>
      </p:pic>
      <p:pic>
        <p:nvPicPr>
          <p:cNvPr id="476" name="Explicaţie în oval 7" descr=""/>
          <p:cNvPicPr/>
          <p:nvPr/>
        </p:nvPicPr>
        <p:blipFill>
          <a:blip r:embed="rId2"/>
          <a:stretch/>
        </p:blipFill>
        <p:spPr>
          <a:xfrm>
            <a:off x="4664160" y="1414440"/>
            <a:ext cx="1163520" cy="7858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3" descr=""/>
          <p:cNvPicPr/>
          <p:nvPr/>
        </p:nvPicPr>
        <p:blipFill>
          <a:blip r:embed="rId3"/>
          <a:stretch/>
        </p:blipFill>
        <p:spPr>
          <a:xfrm>
            <a:off x="3995640" y="2502000"/>
            <a:ext cx="4975200" cy="969840"/>
          </a:xfrm>
          <a:prstGeom prst="rect">
            <a:avLst/>
          </a:prstGeom>
          <a:ln w="0">
            <a:noFill/>
          </a:ln>
        </p:spPr>
      </p:pic>
      <p:pic>
        <p:nvPicPr>
          <p:cNvPr id="478" name="Explicaţie în oval 10" descr=""/>
          <p:cNvPicPr/>
          <p:nvPr/>
        </p:nvPicPr>
        <p:blipFill>
          <a:blip r:embed="rId4"/>
          <a:stretch/>
        </p:blipFill>
        <p:spPr>
          <a:xfrm>
            <a:off x="4846680" y="2511360"/>
            <a:ext cx="1200240" cy="8049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" descr=""/>
          <p:cNvPicPr/>
          <p:nvPr/>
        </p:nvPicPr>
        <p:blipFill>
          <a:blip r:embed="rId5"/>
          <a:stretch/>
        </p:blipFill>
        <p:spPr>
          <a:xfrm>
            <a:off x="3995640" y="3573360"/>
            <a:ext cx="4962600" cy="997200"/>
          </a:xfrm>
          <a:prstGeom prst="rect">
            <a:avLst/>
          </a:prstGeom>
          <a:ln w="0">
            <a:noFill/>
          </a:ln>
        </p:spPr>
      </p:pic>
      <p:pic>
        <p:nvPicPr>
          <p:cNvPr id="480" name="Explicaţie în oval 12" descr=""/>
          <p:cNvPicPr/>
          <p:nvPr/>
        </p:nvPicPr>
        <p:blipFill>
          <a:blip r:embed="rId6"/>
          <a:stretch/>
        </p:blipFill>
        <p:spPr>
          <a:xfrm>
            <a:off x="5218200" y="3560760"/>
            <a:ext cx="1292040" cy="8715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5" descr=""/>
          <p:cNvPicPr/>
          <p:nvPr/>
        </p:nvPicPr>
        <p:blipFill>
          <a:blip r:embed="rId7"/>
          <a:stretch/>
        </p:blipFill>
        <p:spPr>
          <a:xfrm>
            <a:off x="3995640" y="4578480"/>
            <a:ext cx="4975200" cy="988920"/>
          </a:xfrm>
          <a:prstGeom prst="rect">
            <a:avLst/>
          </a:prstGeom>
          <a:ln w="0">
            <a:noFill/>
          </a:ln>
        </p:spPr>
      </p:pic>
      <p:pic>
        <p:nvPicPr>
          <p:cNvPr id="482" name="Explicaţie în oval 15" descr=""/>
          <p:cNvPicPr/>
          <p:nvPr/>
        </p:nvPicPr>
        <p:blipFill>
          <a:blip r:embed="rId8"/>
          <a:stretch/>
        </p:blipFill>
        <p:spPr>
          <a:xfrm>
            <a:off x="5389560" y="4516560"/>
            <a:ext cx="1163520" cy="86040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7" descr=""/>
          <p:cNvPicPr/>
          <p:nvPr/>
        </p:nvPicPr>
        <p:blipFill>
          <a:blip r:embed="rId9"/>
          <a:stretch/>
        </p:blipFill>
        <p:spPr>
          <a:xfrm>
            <a:off x="3995640" y="5578560"/>
            <a:ext cx="4940280" cy="984240"/>
          </a:xfrm>
          <a:prstGeom prst="rect">
            <a:avLst/>
          </a:prstGeom>
          <a:ln w="0">
            <a:noFill/>
          </a:ln>
        </p:spPr>
      </p:pic>
      <p:pic>
        <p:nvPicPr>
          <p:cNvPr id="484" name="Explicaţie în oval 17" descr=""/>
          <p:cNvPicPr/>
          <p:nvPr/>
        </p:nvPicPr>
        <p:blipFill>
          <a:blip r:embed="rId10"/>
          <a:stretch/>
        </p:blipFill>
        <p:spPr>
          <a:xfrm>
            <a:off x="5699160" y="5553000"/>
            <a:ext cx="1281240" cy="762120"/>
          </a:xfrm>
          <a:prstGeom prst="rect">
            <a:avLst/>
          </a:prstGeom>
          <a:ln w="0">
            <a:noFill/>
          </a:ln>
        </p:spPr>
      </p:pic>
      <p:sp>
        <p:nvSpPr>
          <p:cNvPr id="485" name="CasetăText 19"/>
          <p:cNvSpPr/>
          <p:nvPr/>
        </p:nvSpPr>
        <p:spPr>
          <a:xfrm>
            <a:off x="274680" y="992160"/>
            <a:ext cx="4010040" cy="53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#include &lt;iostream.h&gt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oid main(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</a:t>
            </a:r>
            <a:r>
              <a:rPr b="0" lang="ro-RO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t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a</a:t>
            </a:r>
            <a:r>
              <a:rPr b="0" lang="ro-RO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[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100</a:t>
            </a:r>
            <a:r>
              <a:rPr b="0" lang="ro-RO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]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, </a:t>
            </a:r>
            <a:r>
              <a:rPr b="0" lang="ro-RO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,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x, ok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ut&lt;&lt;“Dati nr. de elemente: ”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in&gt;&gt;n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ut&lt;&lt;“Dati elementele vectorului”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for(int i=0;i&lt;=n-1;i++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in&gt;&gt;a[i]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ut&lt;&lt;“Dati numarul cautat: ”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in&gt;&gt;x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b050"/>
                </a:solidFill>
                <a:latin typeface="Comic Sans MS"/>
                <a:ea typeface="ＭＳ Ｐゴシック"/>
              </a:rPr>
              <a:t>i=</a:t>
            </a:r>
            <a:r>
              <a:rPr b="1" lang="en-US" sz="1600" spc="-1" strike="noStrike">
                <a:solidFill>
                  <a:srgbClr val="00b050"/>
                </a:solidFill>
                <a:latin typeface="Comic Sans MS"/>
                <a:ea typeface="ＭＳ Ｐゴシック"/>
              </a:rPr>
              <a:t>0</a:t>
            </a:r>
            <a:r>
              <a:rPr b="1" lang="ro-RO" sz="1600" spc="-1" strike="noStrike">
                <a:solidFill>
                  <a:srgbClr val="00b050"/>
                </a:solidFill>
                <a:latin typeface="Comic Sans MS"/>
                <a:ea typeface="ＭＳ Ｐゴシック"/>
              </a:rPr>
              <a:t>;</a:t>
            </a:r>
            <a:r>
              <a:rPr b="1" lang="en-US" sz="1600" spc="-1" strike="noStrike">
                <a:solidFill>
                  <a:srgbClr val="00b050"/>
                </a:solidFill>
                <a:latin typeface="Comic Sans MS"/>
                <a:ea typeface="ＭＳ Ｐゴシック"/>
              </a:rPr>
              <a:t>//resetam indexul la 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600" spc="-1" strike="noStrike">
                <a:solidFill>
                  <a:srgbClr val="00b050"/>
                </a:solidFill>
                <a:latin typeface="Comic Sans MS"/>
                <a:ea typeface="ＭＳ Ｐゴシック"/>
              </a:rPr>
              <a:t>While ( i&lt;n-1 &amp;&amp; a[i]!=x 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600" spc="-1" strike="noStrike">
                <a:solidFill>
                  <a:srgbClr val="00b050"/>
                </a:solidFill>
                <a:latin typeface="Comic Sans MS"/>
                <a:ea typeface="ＭＳ Ｐゴシック"/>
              </a:rPr>
              <a:t>	</a:t>
            </a:r>
            <a:r>
              <a:rPr b="1" lang="nn-NO" sz="1600" spc="-1" strike="noStrike">
                <a:solidFill>
                  <a:srgbClr val="00b050"/>
                </a:solidFill>
                <a:latin typeface="Comic Sans MS"/>
                <a:ea typeface="ＭＳ Ｐゴシック"/>
              </a:rPr>
              <a:t>i++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omic Sans MS"/>
                <a:ea typeface="ＭＳ Ｐゴシック"/>
              </a:rPr>
              <a:t>If (</a:t>
            </a:r>
            <a:r>
              <a:rPr b="1" lang="ro-RO" sz="1600" spc="-1" strike="noStrike">
                <a:solidFill>
                  <a:srgbClr val="00b050"/>
                </a:solidFill>
                <a:latin typeface="Courier New"/>
                <a:ea typeface="ＭＳ Ｐゴシック"/>
              </a:rPr>
              <a:t>a[i]</a:t>
            </a:r>
            <a:r>
              <a:rPr b="1" lang="en-US" sz="1600" spc="-1" strike="noStrike">
                <a:solidFill>
                  <a:srgbClr val="00b050"/>
                </a:solidFill>
                <a:latin typeface="Courier New"/>
                <a:ea typeface="ＭＳ Ｐゴシック"/>
              </a:rPr>
              <a:t>==</a:t>
            </a:r>
            <a:r>
              <a:rPr b="1" lang="ro-RO" sz="1600" spc="-1" strike="noStrike">
                <a:solidFill>
                  <a:srgbClr val="00b050"/>
                </a:solidFill>
                <a:latin typeface="Courier New"/>
                <a:ea typeface="ＭＳ Ｐゴシック"/>
              </a:rPr>
              <a:t>x</a:t>
            </a:r>
            <a:r>
              <a:rPr b="1" lang="en-US" sz="1600" spc="-1" strike="noStrike">
                <a:solidFill>
                  <a:srgbClr val="00b050"/>
                </a:solidFill>
                <a:latin typeface="Comic Sans MS"/>
                <a:ea typeface="ＭＳ Ｐゴシック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omic Sans MS"/>
                <a:ea typeface="ＭＳ Ｐゴシック"/>
              </a:rPr>
              <a:t>  </a:t>
            </a:r>
            <a:r>
              <a:rPr b="1" lang="en-US" sz="1600" spc="-1" strike="noStrike">
                <a:solidFill>
                  <a:srgbClr val="00b050"/>
                </a:solidFill>
                <a:latin typeface="Comic Sans MS"/>
                <a:ea typeface="ＭＳ Ｐゴシック"/>
              </a:rPr>
              <a:t>cout&lt;&lt;“Nr. are indexul ”&lt;&lt;i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omic Sans MS"/>
                <a:ea typeface="ＭＳ Ｐゴシック"/>
              </a:rPr>
              <a:t>  </a:t>
            </a:r>
            <a:r>
              <a:rPr b="1" lang="ro-RO" sz="1600" spc="-1" strike="noStrike">
                <a:solidFill>
                  <a:srgbClr val="00b050"/>
                </a:solidFill>
                <a:latin typeface="Comic Sans MS"/>
                <a:ea typeface="ＭＳ Ｐゴシック"/>
              </a:rPr>
              <a:t>else </a:t>
            </a:r>
            <a:r>
              <a:rPr b="1" lang="en-US" sz="1600" spc="-1" strike="noStrike">
                <a:solidFill>
                  <a:srgbClr val="00b050"/>
                </a:solidFill>
                <a:latin typeface="Comic Sans MS"/>
                <a:ea typeface="ＭＳ Ｐゴシック"/>
              </a:rPr>
              <a:t>cout&lt;&lt;“Nr. nu este in vector";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86" name="Titlu 3" descr=""/>
          <p:cNvPicPr/>
          <p:nvPr/>
        </p:nvPicPr>
        <p:blipFill>
          <a:blip r:embed="rId11"/>
          <a:stretch/>
        </p:blipFill>
        <p:spPr>
          <a:xfrm>
            <a:off x="0" y="291960"/>
            <a:ext cx="914400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1" repeatCount="2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4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4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4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4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21" repeatCount="2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" dur="500" fill="hold"/>
                                        <p:tgtEl>
                                          <p:spTgt spid="4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" dur="500" fill="hold"/>
                                        <p:tgtEl>
                                          <p:spTgt spid="4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" dur="500" fill="hold"/>
                                        <p:tgtEl>
                                          <p:spTgt spid="4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4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5">
                                      <p:txEl>
                                        <p:pRg st="14" end="1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45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1" repeatCount="2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" dur="500" fill="hold"/>
                                        <p:tgtEl>
                                          <p:spTgt spid="4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" dur="500" fill="hold"/>
                                        <p:tgtEl>
                                          <p:spTgt spid="4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" dur="500" fill="hold"/>
                                        <p:tgtEl>
                                          <p:spTgt spid="4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4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5">
                                      <p:txEl>
                                        <p:pRg st="15" end="1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45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21" repeatCount="2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" dur="500" fill="hold"/>
                                        <p:tgtEl>
                                          <p:spTgt spid="4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" dur="500" fill="hold"/>
                                        <p:tgtEl>
                                          <p:spTgt spid="4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" dur="500" fill="hold"/>
                                        <p:tgtEl>
                                          <p:spTgt spid="4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4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5">
                                      <p:txEl>
                                        <p:pRg st="16" end="1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45a"/>
                                </p:to>
                              </p:animCl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5">
                                      <p:txEl>
                                        <p:pRg st="15" end="1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1" dur="500" fill="hold"/>
                                        <p:tgtEl>
                                          <p:spTgt spid="4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" dur="500" fill="hold"/>
                                        <p:tgtEl>
                                          <p:spTgt spid="4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" dur="500" fill="hold"/>
                                        <p:tgtEl>
                                          <p:spTgt spid="4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4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21" repeatCount="2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8" dur="500" fill="hold"/>
                                        <p:tgtEl>
                                          <p:spTgt spid="4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" dur="500" fill="hold"/>
                                        <p:tgtEl>
                                          <p:spTgt spid="4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0" dur="500" fill="hold"/>
                                        <p:tgtEl>
                                          <p:spTgt spid="4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4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5">
                                      <p:txEl>
                                        <p:pRg st="15" end="1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45a"/>
                                </p:to>
                              </p:animCl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8" dur="500" fill="hold"/>
                                        <p:tgtEl>
                                          <p:spTgt spid="4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9" dur="500" fill="hold"/>
                                        <p:tgtEl>
                                          <p:spTgt spid="4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0" dur="500" fill="hold"/>
                                        <p:tgtEl>
                                          <p:spTgt spid="4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71" dur="500" fill="hold"/>
                                        <p:tgtEl>
                                          <p:spTgt spid="4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5">
                                      <p:txEl>
                                        <p:pRg st="16" end="1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mph" presetID="21" repeatCount="2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5" dur="500" fill="hold"/>
                                        <p:tgtEl>
                                          <p:spTgt spid="4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6" dur="500" fill="hold"/>
                                        <p:tgtEl>
                                          <p:spTgt spid="4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7" dur="500" fill="hold"/>
                                        <p:tgtEl>
                                          <p:spTgt spid="4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78" dur="500" fill="hold"/>
                                        <p:tgtEl>
                                          <p:spTgt spid="4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5">
                                      <p:txEl>
                                        <p:pRg st="16" end="1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45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3" dur="500" fill="hold"/>
                                        <p:tgtEl>
                                          <p:spTgt spid="4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4" dur="500" fill="hold"/>
                                        <p:tgtEl>
                                          <p:spTgt spid="4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5" dur="500" fill="hold"/>
                                        <p:tgtEl>
                                          <p:spTgt spid="4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86" dur="500" fill="hold"/>
                                        <p:tgtEl>
                                          <p:spTgt spid="4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5">
                                      <p:txEl>
                                        <p:pRg st="15" end="1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5">
                                      <p:txEl>
                                        <p:pRg st="15" end="1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45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21" repeatCount="2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7" dur="500" fill="hold"/>
                                        <p:tgtEl>
                                          <p:spTgt spid="4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8" dur="500" fill="hold"/>
                                        <p:tgtEl>
                                          <p:spTgt spid="4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9" dur="500" fill="hold"/>
                                        <p:tgtEl>
                                          <p:spTgt spid="4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00" dur="500" fill="hold"/>
                                        <p:tgtEl>
                                          <p:spTgt spid="4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5">
                                      <p:txEl>
                                        <p:pRg st="16" end="1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0" dur="500" fill="hold"/>
                                        <p:tgtEl>
                                          <p:spTgt spid="4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1" dur="500" fill="hold"/>
                                        <p:tgtEl>
                                          <p:spTgt spid="4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2" dur="500" fill="hold"/>
                                        <p:tgtEl>
                                          <p:spTgt spid="4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4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21" repeatCount="2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7" dur="500" fill="hold"/>
                                        <p:tgtEl>
                                          <p:spTgt spid="4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8" dur="500" fill="hold"/>
                                        <p:tgtEl>
                                          <p:spTgt spid="4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9" dur="500" fill="hold"/>
                                        <p:tgtEl>
                                          <p:spTgt spid="4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20" dur="500" fill="hold"/>
                                        <p:tgtEl>
                                          <p:spTgt spid="4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5">
                                      <p:txEl>
                                        <p:pRg st="16" end="1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45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5">
                                      <p:txEl>
                                        <p:pRg st="15" end="1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1" dur="500" fill="hold"/>
                                        <p:tgtEl>
                                          <p:spTgt spid="4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2" dur="500" fill="hold"/>
                                        <p:tgtEl>
                                          <p:spTgt spid="4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3" dur="500" fill="hold"/>
                                        <p:tgtEl>
                                          <p:spTgt spid="4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4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21" repeatCount="2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8" dur="500" fill="hold"/>
                                        <p:tgtEl>
                                          <p:spTgt spid="4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9" dur="500" fill="hold"/>
                                        <p:tgtEl>
                                          <p:spTgt spid="4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0" dur="500" fill="hold"/>
                                        <p:tgtEl>
                                          <p:spTgt spid="4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41" dur="500" fill="hold"/>
                                        <p:tgtEl>
                                          <p:spTgt spid="4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5">
                                      <p:txEl>
                                        <p:pRg st="15" end="1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45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5">
                                      <p:txEl>
                                        <p:pRg st="16" end="1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2" dur="500" fill="hold"/>
                                        <p:tgtEl>
                                          <p:spTgt spid="4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3" dur="500" fill="hold"/>
                                        <p:tgtEl>
                                          <p:spTgt spid="4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4" dur="500" fill="hold"/>
                                        <p:tgtEl>
                                          <p:spTgt spid="4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4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21" repeatCount="2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9" dur="500" fill="hold"/>
                                        <p:tgtEl>
                                          <p:spTgt spid="4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0" dur="500" fill="hold"/>
                                        <p:tgtEl>
                                          <p:spTgt spid="4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1" dur="500" fill="hold"/>
                                        <p:tgtEl>
                                          <p:spTgt spid="4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62" dur="500" fill="hold"/>
                                        <p:tgtEl>
                                          <p:spTgt spid="4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5">
                                      <p:txEl>
                                        <p:pRg st="16" end="1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45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5">
                                      <p:txEl>
                                        <p:pRg st="15" end="1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3" dur="500" fill="hold"/>
                                        <p:tgtEl>
                                          <p:spTgt spid="4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4" dur="500" fill="hold"/>
                                        <p:tgtEl>
                                          <p:spTgt spid="4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5" dur="500" fill="hold"/>
                                        <p:tgtEl>
                                          <p:spTgt spid="4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4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21" repeatCount="2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0" dur="500" fill="hold"/>
                                        <p:tgtEl>
                                          <p:spTgt spid="48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1" dur="500" fill="hold"/>
                                        <p:tgtEl>
                                          <p:spTgt spid="48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2" dur="500" fill="hold"/>
                                        <p:tgtEl>
                                          <p:spTgt spid="48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83" dur="500" fill="hold"/>
                                        <p:tgtEl>
                                          <p:spTgt spid="48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5">
                                      <p:txEl>
                                        <p:pRg st="15" end="1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b45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8" dur="500" fill="hold"/>
                                        <p:tgtEl>
                                          <p:spTgt spid="48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9" dur="500" fill="hold"/>
                                        <p:tgtEl>
                                          <p:spTgt spid="48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0" dur="500" fill="hold"/>
                                        <p:tgtEl>
                                          <p:spTgt spid="48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91" dur="500" fill="hold"/>
                                        <p:tgtEl>
                                          <p:spTgt spid="48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5">
                                      <p:txEl>
                                        <p:pRg st="18" end="1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509760" y="939600"/>
            <a:ext cx="6589440" cy="121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Exemplul </a:t>
            </a:r>
            <a:r>
              <a:rPr b="1" lang="ro-RO" sz="18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ro-RO" sz="1800" spc="-1" strike="noStrike">
                <a:solidFill>
                  <a:srgbClr val="003399"/>
                </a:solidFill>
                <a:latin typeface="Comic Sans MS"/>
              </a:rPr>
              <a:t>Elementul 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</a:t>
            </a:r>
            <a:r>
              <a:rPr b="0" lang="ro-RO" sz="1800" spc="-1" strike="noStrike">
                <a:solidFill>
                  <a:srgbClr val="003399"/>
                </a:solidFill>
                <a:latin typeface="Comic Sans MS"/>
              </a:rPr>
              <a:t>ăutat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:</a:t>
            </a:r>
            <a:r>
              <a:rPr b="0" lang="ro-RO" sz="1800" spc="-1" strike="noStrike">
                <a:solidFill>
                  <a:srgbClr val="003399"/>
                </a:solidFill>
                <a:latin typeface="Comic Sans MS"/>
              </a:rPr>
              <a:t>  </a:t>
            </a:r>
            <a:r>
              <a:rPr b="1" lang="ro-RO" sz="1800" spc="-1" strike="noStrike">
                <a:solidFill>
                  <a:srgbClr val="003399"/>
                </a:solidFill>
                <a:latin typeface="Comic Sans MS"/>
              </a:rPr>
              <a:t>x</a:t>
            </a: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1" lang="ro-RO" sz="1800" spc="-1" strike="noStrike">
                <a:solidFill>
                  <a:srgbClr val="003399"/>
                </a:solidFill>
                <a:latin typeface="Comic Sans MS"/>
              </a:rPr>
              <a:t>72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Vectorul</a:t>
            </a: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 in care se face cautarea : </a:t>
            </a: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int a [</a:t>
            </a:r>
            <a:r>
              <a:rPr b="1" lang="ro-RO" sz="1800" spc="-1" strike="noStrike">
                <a:solidFill>
                  <a:srgbClr val="003399"/>
                </a:solidFill>
                <a:latin typeface="Comic Sans MS"/>
              </a:rPr>
              <a:t>7</a:t>
            </a: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]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;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488" name="Picture 3" descr=""/>
          <p:cNvPicPr/>
          <p:nvPr/>
        </p:nvPicPr>
        <p:blipFill>
          <a:blip r:embed="rId1"/>
          <a:srcRect l="0" t="0" r="40823" b="3862"/>
          <a:stretch/>
        </p:blipFill>
        <p:spPr>
          <a:xfrm>
            <a:off x="1812960" y="3191040"/>
            <a:ext cx="3603600" cy="582480"/>
          </a:xfrm>
          <a:prstGeom prst="rect">
            <a:avLst/>
          </a:prstGeom>
          <a:ln w="0">
            <a:noFill/>
          </a:ln>
        </p:spPr>
      </p:pic>
      <p:grpSp>
        <p:nvGrpSpPr>
          <p:cNvPr id="489" name="Grupare 11"/>
          <p:cNvGrpSpPr/>
          <p:nvPr/>
        </p:nvGrpSpPr>
        <p:grpSpPr>
          <a:xfrm>
            <a:off x="1687680" y="2460600"/>
            <a:ext cx="1203120" cy="2025720"/>
            <a:chOff x="1687680" y="2460600"/>
            <a:chExt cx="1203120" cy="2025720"/>
          </a:xfrm>
        </p:grpSpPr>
        <p:sp>
          <p:nvSpPr>
            <p:cNvPr id="490" name="Dreptunghi 5"/>
            <p:cNvSpPr/>
            <p:nvPr/>
          </p:nvSpPr>
          <p:spPr>
            <a:xfrm>
              <a:off x="1847880" y="2667240"/>
              <a:ext cx="379080" cy="264960"/>
            </a:xfrm>
            <a:prstGeom prst="rect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round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1" name="CasetăText 6"/>
            <p:cNvSpPr/>
            <p:nvPr/>
          </p:nvSpPr>
          <p:spPr>
            <a:xfrm>
              <a:off x="1687680" y="2460600"/>
              <a:ext cx="745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index</a:t>
              </a:r>
              <a:endParaRPr b="0" lang="en-US" sz="11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cxnSp>
          <p:nvCxnSpPr>
            <p:cNvPr id="492" name="Conector drept cu săgeată 8"/>
            <p:cNvCxnSpPr>
              <a:stCxn id="490" idx="2"/>
            </p:cNvCxnSpPr>
            <p:nvPr/>
          </p:nvCxnSpPr>
          <p:spPr>
            <a:xfrm>
              <a:off x="2035800" y="2931840"/>
              <a:ext cx="6840" cy="28764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arrow" w="med"/>
            </a:ln>
          </p:spPr>
        </p:cxnSp>
        <p:pic>
          <p:nvPicPr>
            <p:cNvPr id="493" name="Explicaţie în oval 10" descr=""/>
            <p:cNvPicPr/>
            <p:nvPr/>
          </p:nvPicPr>
          <p:blipFill>
            <a:blip r:embed="rId2"/>
            <a:stretch/>
          </p:blipFill>
          <p:spPr>
            <a:xfrm>
              <a:off x="1815480" y="3777480"/>
              <a:ext cx="1075320" cy="70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4" name="Grupare 12"/>
          <p:cNvGrpSpPr/>
          <p:nvPr/>
        </p:nvGrpSpPr>
        <p:grpSpPr>
          <a:xfrm>
            <a:off x="2220840" y="2460600"/>
            <a:ext cx="1363680" cy="2058840"/>
            <a:chOff x="2220840" y="2460600"/>
            <a:chExt cx="1363680" cy="2058840"/>
          </a:xfrm>
        </p:grpSpPr>
        <p:sp>
          <p:nvSpPr>
            <p:cNvPr id="495" name="Dreptunghi 13"/>
            <p:cNvSpPr/>
            <p:nvPr/>
          </p:nvSpPr>
          <p:spPr>
            <a:xfrm>
              <a:off x="2381040" y="2667600"/>
              <a:ext cx="379080" cy="265320"/>
            </a:xfrm>
            <a:prstGeom prst="rect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round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6" name="CasetăText 14"/>
            <p:cNvSpPr/>
            <p:nvPr/>
          </p:nvSpPr>
          <p:spPr>
            <a:xfrm>
              <a:off x="2220840" y="2460600"/>
              <a:ext cx="745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index</a:t>
              </a:r>
              <a:endParaRPr b="0" lang="en-US" sz="11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cxnSp>
          <p:nvCxnSpPr>
            <p:cNvPr id="497" name="Conector drept cu săgeată 15"/>
            <p:cNvCxnSpPr>
              <a:stCxn id="495" idx="2"/>
            </p:cNvCxnSpPr>
            <p:nvPr/>
          </p:nvCxnSpPr>
          <p:spPr>
            <a:xfrm>
              <a:off x="2568960" y="2932920"/>
              <a:ext cx="6840" cy="28800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arrow" w="med"/>
            </a:ln>
          </p:spPr>
        </p:cxnSp>
        <p:pic>
          <p:nvPicPr>
            <p:cNvPr id="498" name="Explicaţie în oval 16" descr=""/>
            <p:cNvPicPr/>
            <p:nvPr/>
          </p:nvPicPr>
          <p:blipFill>
            <a:blip r:embed="rId3"/>
            <a:stretch/>
          </p:blipFill>
          <p:spPr>
            <a:xfrm>
              <a:off x="2345760" y="3755160"/>
              <a:ext cx="1238760" cy="76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9" name="Grupare 17"/>
          <p:cNvGrpSpPr/>
          <p:nvPr/>
        </p:nvGrpSpPr>
        <p:grpSpPr>
          <a:xfrm>
            <a:off x="2738520" y="2460600"/>
            <a:ext cx="1365120" cy="2058840"/>
            <a:chOff x="2738520" y="2460600"/>
            <a:chExt cx="1365120" cy="2058840"/>
          </a:xfrm>
        </p:grpSpPr>
        <p:sp>
          <p:nvSpPr>
            <p:cNvPr id="500" name="Dreptunghi 18"/>
            <p:cNvSpPr/>
            <p:nvPr/>
          </p:nvSpPr>
          <p:spPr>
            <a:xfrm>
              <a:off x="2899080" y="2667600"/>
              <a:ext cx="379440" cy="265320"/>
            </a:xfrm>
            <a:prstGeom prst="rect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round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1" name="CasetăText 19"/>
            <p:cNvSpPr/>
            <p:nvPr/>
          </p:nvSpPr>
          <p:spPr>
            <a:xfrm>
              <a:off x="2738520" y="2460600"/>
              <a:ext cx="747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index</a:t>
              </a:r>
              <a:endParaRPr b="0" lang="en-US" sz="11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cxnSp>
          <p:nvCxnSpPr>
            <p:cNvPr id="502" name="Conector drept cu săgeată 20"/>
            <p:cNvCxnSpPr>
              <a:stCxn id="500" idx="2"/>
            </p:cNvCxnSpPr>
            <p:nvPr/>
          </p:nvCxnSpPr>
          <p:spPr>
            <a:xfrm>
              <a:off x="3088440" y="2932920"/>
              <a:ext cx="5400" cy="28800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arrow" w="med"/>
            </a:ln>
          </p:spPr>
        </p:cxnSp>
        <p:pic>
          <p:nvPicPr>
            <p:cNvPr id="503" name="Explicaţie în oval 21" descr=""/>
            <p:cNvPicPr/>
            <p:nvPr/>
          </p:nvPicPr>
          <p:blipFill>
            <a:blip r:embed="rId4"/>
            <a:stretch/>
          </p:blipFill>
          <p:spPr>
            <a:xfrm>
              <a:off x="2864160" y="3755160"/>
              <a:ext cx="1239480" cy="76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4" name="Grupare 22"/>
          <p:cNvGrpSpPr/>
          <p:nvPr/>
        </p:nvGrpSpPr>
        <p:grpSpPr>
          <a:xfrm>
            <a:off x="3255840" y="2460600"/>
            <a:ext cx="1365480" cy="2058840"/>
            <a:chOff x="3255840" y="2460600"/>
            <a:chExt cx="1365480" cy="2058840"/>
          </a:xfrm>
        </p:grpSpPr>
        <p:sp>
          <p:nvSpPr>
            <p:cNvPr id="505" name="Dreptunghi 23"/>
            <p:cNvSpPr/>
            <p:nvPr/>
          </p:nvSpPr>
          <p:spPr>
            <a:xfrm>
              <a:off x="3416400" y="2667600"/>
              <a:ext cx="379440" cy="265320"/>
            </a:xfrm>
            <a:prstGeom prst="rect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round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06" name="CasetăText 24"/>
            <p:cNvSpPr/>
            <p:nvPr/>
          </p:nvSpPr>
          <p:spPr>
            <a:xfrm>
              <a:off x="3255840" y="2460600"/>
              <a:ext cx="747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index</a:t>
              </a:r>
              <a:endParaRPr b="0" lang="en-US" sz="11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cxnSp>
          <p:nvCxnSpPr>
            <p:cNvPr id="507" name="Conector drept cu săgeată 25"/>
            <p:cNvCxnSpPr>
              <a:stCxn id="505" idx="2"/>
            </p:cNvCxnSpPr>
            <p:nvPr/>
          </p:nvCxnSpPr>
          <p:spPr>
            <a:xfrm>
              <a:off x="3605760" y="2932920"/>
              <a:ext cx="5400" cy="28800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arrow" w="med"/>
            </a:ln>
          </p:spPr>
        </p:cxnSp>
        <p:pic>
          <p:nvPicPr>
            <p:cNvPr id="508" name="Explicaţie în oval 26" descr=""/>
            <p:cNvPicPr/>
            <p:nvPr/>
          </p:nvPicPr>
          <p:blipFill>
            <a:blip r:embed="rId5"/>
            <a:stretch/>
          </p:blipFill>
          <p:spPr>
            <a:xfrm>
              <a:off x="3381840" y="3755160"/>
              <a:ext cx="1239480" cy="76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9" name="Grupare 27"/>
          <p:cNvGrpSpPr/>
          <p:nvPr/>
        </p:nvGrpSpPr>
        <p:grpSpPr>
          <a:xfrm>
            <a:off x="3774960" y="2460600"/>
            <a:ext cx="1363680" cy="2058840"/>
            <a:chOff x="3774960" y="2460600"/>
            <a:chExt cx="1363680" cy="2058840"/>
          </a:xfrm>
        </p:grpSpPr>
        <p:sp>
          <p:nvSpPr>
            <p:cNvPr id="510" name="Dreptunghi 28"/>
            <p:cNvSpPr/>
            <p:nvPr/>
          </p:nvSpPr>
          <p:spPr>
            <a:xfrm>
              <a:off x="3935160" y="2667600"/>
              <a:ext cx="379080" cy="265320"/>
            </a:xfrm>
            <a:prstGeom prst="rect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round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1" name="CasetăText 29"/>
            <p:cNvSpPr/>
            <p:nvPr/>
          </p:nvSpPr>
          <p:spPr>
            <a:xfrm>
              <a:off x="3774960" y="2460600"/>
              <a:ext cx="7455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index</a:t>
              </a:r>
              <a:endParaRPr b="0" lang="en-US" sz="11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cxnSp>
          <p:nvCxnSpPr>
            <p:cNvPr id="512" name="Conector drept cu săgeată 30"/>
            <p:cNvCxnSpPr>
              <a:stCxn id="510" idx="2"/>
            </p:cNvCxnSpPr>
            <p:nvPr/>
          </p:nvCxnSpPr>
          <p:spPr>
            <a:xfrm>
              <a:off x="4123080" y="2932920"/>
              <a:ext cx="6840" cy="28800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arrow" w="med"/>
            </a:ln>
          </p:spPr>
        </p:cxnSp>
        <p:pic>
          <p:nvPicPr>
            <p:cNvPr id="513" name="Explicaţie în oval 31" descr=""/>
            <p:cNvPicPr/>
            <p:nvPr/>
          </p:nvPicPr>
          <p:blipFill>
            <a:blip r:embed="rId6"/>
            <a:stretch/>
          </p:blipFill>
          <p:spPr>
            <a:xfrm>
              <a:off x="3899880" y="3755160"/>
              <a:ext cx="1238760" cy="764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4" name="Grupare 32"/>
          <p:cNvGrpSpPr/>
          <p:nvPr/>
        </p:nvGrpSpPr>
        <p:grpSpPr>
          <a:xfrm>
            <a:off x="4292640" y="2460600"/>
            <a:ext cx="1363680" cy="2058840"/>
            <a:chOff x="4292640" y="2460600"/>
            <a:chExt cx="1363680" cy="2058840"/>
          </a:xfrm>
        </p:grpSpPr>
        <p:sp>
          <p:nvSpPr>
            <p:cNvPr id="515" name="Dreptunghi 33"/>
            <p:cNvSpPr/>
            <p:nvPr/>
          </p:nvSpPr>
          <p:spPr>
            <a:xfrm>
              <a:off x="4452840" y="2667600"/>
              <a:ext cx="378720" cy="265320"/>
            </a:xfrm>
            <a:prstGeom prst="rect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round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6" name="CasetăText 34"/>
            <p:cNvSpPr/>
            <p:nvPr/>
          </p:nvSpPr>
          <p:spPr>
            <a:xfrm>
              <a:off x="4292640" y="2460600"/>
              <a:ext cx="745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index</a:t>
              </a:r>
              <a:endParaRPr b="0" lang="en-US" sz="11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cxnSp>
          <p:nvCxnSpPr>
            <p:cNvPr id="517" name="Conector drept cu săgeată 35"/>
            <p:cNvCxnSpPr>
              <a:stCxn id="515" idx="2"/>
            </p:cNvCxnSpPr>
            <p:nvPr/>
          </p:nvCxnSpPr>
          <p:spPr>
            <a:xfrm>
              <a:off x="4640400" y="2932920"/>
              <a:ext cx="6840" cy="28800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arrow" w="med"/>
            </a:ln>
          </p:spPr>
        </p:cxnSp>
        <p:pic>
          <p:nvPicPr>
            <p:cNvPr id="518" name="Explicaţie în oval 36" descr=""/>
            <p:cNvPicPr/>
            <p:nvPr/>
          </p:nvPicPr>
          <p:blipFill>
            <a:blip r:embed="rId7"/>
            <a:stretch/>
          </p:blipFill>
          <p:spPr>
            <a:xfrm>
              <a:off x="4418280" y="3755160"/>
              <a:ext cx="1238040" cy="764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9" name="Grupare 37" descr=""/>
          <p:cNvPicPr/>
          <p:nvPr/>
        </p:nvPicPr>
        <p:blipFill>
          <a:blip r:embed="rId8"/>
          <a:stretch/>
        </p:blipFill>
        <p:spPr>
          <a:xfrm>
            <a:off x="4809960" y="2462040"/>
            <a:ext cx="1378080" cy="2067120"/>
          </a:xfrm>
          <a:prstGeom prst="rect">
            <a:avLst/>
          </a:prstGeom>
          <a:ln w="0">
            <a:noFill/>
          </a:ln>
        </p:spPr>
      </p:pic>
      <p:pic>
        <p:nvPicPr>
          <p:cNvPr id="520" name="Titlu 3" descr=""/>
          <p:cNvPicPr/>
          <p:nvPr/>
        </p:nvPicPr>
        <p:blipFill>
          <a:blip r:embed="rId9"/>
          <a:stretch/>
        </p:blipFill>
        <p:spPr>
          <a:xfrm>
            <a:off x="0" y="291960"/>
            <a:ext cx="9144000" cy="755640"/>
          </a:xfrm>
          <a:prstGeom prst="rect">
            <a:avLst/>
          </a:prstGeom>
          <a:ln w="0">
            <a:noFill/>
          </a:ln>
        </p:spPr>
      </p:pic>
      <p:pic>
        <p:nvPicPr>
          <p:cNvPr id="521" name="Substituent conținut 2" descr=""/>
          <p:cNvPicPr/>
          <p:nvPr/>
        </p:nvPicPr>
        <p:blipFill>
          <a:blip r:embed="rId10"/>
          <a:stretch/>
        </p:blipFill>
        <p:spPr>
          <a:xfrm>
            <a:off x="590400" y="5175360"/>
            <a:ext cx="6645600" cy="560160"/>
          </a:xfrm>
          <a:prstGeom prst="rect">
            <a:avLst/>
          </a:prstGeom>
          <a:ln w="0">
            <a:noFill/>
          </a:ln>
        </p:spPr>
      </p:pic>
      <p:grpSp>
        <p:nvGrpSpPr>
          <p:cNvPr id="522" name="Buton acțiune: Începere 58"/>
          <p:cNvGrpSpPr/>
          <p:nvPr/>
        </p:nvGrpSpPr>
        <p:grpSpPr>
          <a:xfrm>
            <a:off x="7589880" y="6083280"/>
            <a:ext cx="931680" cy="542880"/>
            <a:chOff x="7589880" y="6083280"/>
            <a:chExt cx="931680" cy="542880"/>
          </a:xfrm>
        </p:grpSpPr>
        <p:pic>
          <p:nvPicPr>
            <p:cNvPr id="523" name="Buton acțiune: Începere 58" descr="">
              <a:hlinkClick r:id="" action="ppaction://hlinkshowjump?jump=firstslide"/>
            </p:cNvPr>
            <p:cNvPicPr/>
            <p:nvPr/>
          </p:nvPicPr>
          <p:blipFill>
            <a:blip r:embed="rId11"/>
            <a:stretch/>
          </p:blipFill>
          <p:spPr>
            <a:xfrm>
              <a:off x="7589880" y="6083280"/>
              <a:ext cx="9316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7642080" y="6113520"/>
              <a:ext cx="8226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9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7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4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609480" y="914040"/>
            <a:ext cx="7848720" cy="18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Principiul de functionare</a:t>
            </a: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: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545400" indent="-144720" algn="just">
              <a:lnSpc>
                <a:spcPts val="2599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1800" spc="-1" strike="noStrike">
                <a:solidFill>
                  <a:srgbClr val="003bb0"/>
                </a:solidFill>
                <a:latin typeface="Comic Sans MS"/>
              </a:rPr>
              <a:t>Tabloul a se prelungeste cu inca un element (</a:t>
            </a:r>
            <a:r>
              <a:rPr b="0" i="1" lang="ro-RO" sz="1800" spc="-1" strike="noStrike">
                <a:solidFill>
                  <a:srgbClr val="003bb0"/>
                </a:solidFill>
                <a:latin typeface="Comic Sans MS"/>
              </a:rPr>
              <a:t>fanion</a:t>
            </a:r>
            <a:r>
              <a:rPr b="0" lang="ro-RO" sz="1800" spc="-1" strike="noStrike">
                <a:solidFill>
                  <a:srgbClr val="003bb0"/>
                </a:solidFill>
                <a:latin typeface="Comic Sans MS"/>
              </a:rPr>
              <a:t>) caruia i se asigneaza valoarea x, apoi se aplica metoda de cautare liniara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545400" indent="-144720" algn="just">
              <a:lnSpc>
                <a:spcPts val="2599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3bb0"/>
                </a:solidFill>
                <a:latin typeface="Comic Sans MS"/>
              </a:rPr>
              <a:t>Avantajul</a:t>
            </a:r>
            <a:r>
              <a:rPr b="1" lang="en-US" sz="1800" spc="-1" strike="noStrike">
                <a:solidFill>
                  <a:srgbClr val="003bb0"/>
                </a:solidFill>
                <a:latin typeface="Comic Sans MS"/>
              </a:rPr>
              <a:t> metodei</a:t>
            </a:r>
            <a:r>
              <a:rPr b="0" lang="en-US" sz="1800" spc="-1" strike="noStrike">
                <a:solidFill>
                  <a:srgbClr val="003bb0"/>
                </a:solidFill>
                <a:latin typeface="Comic Sans MS"/>
              </a:rPr>
              <a:t>: </a:t>
            </a:r>
            <a:r>
              <a:rPr b="0" lang="ro-RO" sz="1800" spc="-1" strike="noStrike">
                <a:solidFill>
                  <a:srgbClr val="003bb0"/>
                </a:solidFill>
                <a:latin typeface="Comic Sans MS"/>
              </a:rPr>
              <a:t>simplificarea conditiei de ciclare</a:t>
            </a:r>
            <a:r>
              <a:rPr b="0" lang="en-US" sz="1800" spc="-1" strike="noStrike">
                <a:solidFill>
                  <a:srgbClr val="003bb0"/>
                </a:solidFill>
                <a:latin typeface="Comic Sans MS"/>
              </a:rPr>
              <a:t>(</a:t>
            </a:r>
            <a:r>
              <a:rPr b="0" lang="ro-RO" sz="1800" spc="-1" strike="noStrike">
                <a:solidFill>
                  <a:srgbClr val="003bb0"/>
                </a:solidFill>
                <a:latin typeface="Comic Sans MS"/>
              </a:rPr>
              <a:t>nu mai este nevoie sa se verifice daca indicele nu depaseste dimensiunea tabloului</a:t>
            </a:r>
            <a:r>
              <a:rPr b="0" lang="en-US" sz="1800" spc="-1" strike="noStrike">
                <a:solidFill>
                  <a:srgbClr val="003bb0"/>
                </a:solidFill>
                <a:latin typeface="Comic Sans MS"/>
              </a:rPr>
              <a:t>)</a:t>
            </a:r>
            <a:r>
              <a:rPr b="0" lang="ro-RO" sz="1800" spc="-1" strike="noStrike">
                <a:solidFill>
                  <a:srgbClr val="003bb0"/>
                </a:solidFill>
                <a:latin typeface="Comic Sans MS"/>
              </a:rPr>
              <a:t> deoarece in tablou exista sigur cel putin un element cu valoarea cautata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526" name="Grupare 14"/>
          <p:cNvGrpSpPr/>
          <p:nvPr/>
        </p:nvGrpSpPr>
        <p:grpSpPr>
          <a:xfrm>
            <a:off x="5376960" y="3873600"/>
            <a:ext cx="696960" cy="790560"/>
            <a:chOff x="5376960" y="3873600"/>
            <a:chExt cx="696960" cy="790560"/>
          </a:xfrm>
        </p:grpSpPr>
        <p:sp>
          <p:nvSpPr>
            <p:cNvPr id="527" name="Dreptunghi 15"/>
            <p:cNvSpPr/>
            <p:nvPr/>
          </p:nvSpPr>
          <p:spPr>
            <a:xfrm>
              <a:off x="5527800" y="4089240"/>
              <a:ext cx="352440" cy="274680"/>
            </a:xfrm>
            <a:prstGeom prst="rect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round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28" name="CasetăText 16"/>
            <p:cNvSpPr/>
            <p:nvPr/>
          </p:nvSpPr>
          <p:spPr>
            <a:xfrm>
              <a:off x="5376960" y="3873600"/>
              <a:ext cx="696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index</a:t>
              </a:r>
              <a:endParaRPr b="0" lang="en-US" sz="11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cxnSp>
          <p:nvCxnSpPr>
            <p:cNvPr id="529" name="Conector drept cu săgeată 17"/>
            <p:cNvCxnSpPr>
              <a:stCxn id="527" idx="2"/>
            </p:cNvCxnSpPr>
            <p:nvPr/>
          </p:nvCxnSpPr>
          <p:spPr>
            <a:xfrm>
              <a:off x="5702760" y="4363920"/>
              <a:ext cx="5400" cy="30060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arrow" w="med"/>
            </a:ln>
          </p:spPr>
        </p:cxnSp>
      </p:grpSp>
      <p:grpSp>
        <p:nvGrpSpPr>
          <p:cNvPr id="530" name="Grupare 4"/>
          <p:cNvGrpSpPr/>
          <p:nvPr/>
        </p:nvGrpSpPr>
        <p:grpSpPr>
          <a:xfrm>
            <a:off x="4427640" y="3873600"/>
            <a:ext cx="698400" cy="790560"/>
            <a:chOff x="4427640" y="3873600"/>
            <a:chExt cx="698400" cy="790560"/>
          </a:xfrm>
        </p:grpSpPr>
        <p:sp>
          <p:nvSpPr>
            <p:cNvPr id="531" name="Dreptunghi 5"/>
            <p:cNvSpPr/>
            <p:nvPr/>
          </p:nvSpPr>
          <p:spPr>
            <a:xfrm>
              <a:off x="4578480" y="4089240"/>
              <a:ext cx="353880" cy="274680"/>
            </a:xfrm>
            <a:prstGeom prst="rect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round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32" name="CasetăText 6"/>
            <p:cNvSpPr/>
            <p:nvPr/>
          </p:nvSpPr>
          <p:spPr>
            <a:xfrm>
              <a:off x="4427640" y="3873600"/>
              <a:ext cx="698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index</a:t>
              </a:r>
              <a:endParaRPr b="0" lang="en-US" sz="11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cxnSp>
          <p:nvCxnSpPr>
            <p:cNvPr id="533" name="Conector drept cu săgeată 7"/>
            <p:cNvCxnSpPr>
              <a:stCxn id="531" idx="2"/>
            </p:cNvCxnSpPr>
            <p:nvPr/>
          </p:nvCxnSpPr>
          <p:spPr>
            <a:xfrm>
              <a:off x="4753440" y="4363920"/>
              <a:ext cx="6840" cy="30060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arrow" w="med"/>
            </a:ln>
          </p:spPr>
        </p:cxnSp>
      </p:grpSp>
      <p:grpSp>
        <p:nvGrpSpPr>
          <p:cNvPr id="534" name="Grupare 9"/>
          <p:cNvGrpSpPr/>
          <p:nvPr/>
        </p:nvGrpSpPr>
        <p:grpSpPr>
          <a:xfrm>
            <a:off x="4913280" y="3873600"/>
            <a:ext cx="698400" cy="790560"/>
            <a:chOff x="4913280" y="3873600"/>
            <a:chExt cx="698400" cy="790560"/>
          </a:xfrm>
        </p:grpSpPr>
        <p:sp>
          <p:nvSpPr>
            <p:cNvPr id="535" name="Dreptunghi 10"/>
            <p:cNvSpPr/>
            <p:nvPr/>
          </p:nvSpPr>
          <p:spPr>
            <a:xfrm>
              <a:off x="5073480" y="4089240"/>
              <a:ext cx="355680" cy="274680"/>
            </a:xfrm>
            <a:prstGeom prst="rect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round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36" name="CasetăText 11"/>
            <p:cNvSpPr/>
            <p:nvPr/>
          </p:nvSpPr>
          <p:spPr>
            <a:xfrm>
              <a:off x="4913280" y="3873600"/>
              <a:ext cx="698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index</a:t>
              </a:r>
              <a:endParaRPr b="0" lang="en-US" sz="11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cxnSp>
          <p:nvCxnSpPr>
            <p:cNvPr id="537" name="Conector drept cu săgeată 12"/>
            <p:cNvCxnSpPr>
              <a:stCxn id="535" idx="2"/>
            </p:cNvCxnSpPr>
            <p:nvPr/>
          </p:nvCxnSpPr>
          <p:spPr>
            <a:xfrm>
              <a:off x="5250240" y="4363920"/>
              <a:ext cx="5400" cy="30060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arrow" w="med"/>
            </a:ln>
          </p:spPr>
        </p:cxnSp>
      </p:grpSp>
      <p:grpSp>
        <p:nvGrpSpPr>
          <p:cNvPr id="538" name="Grupare 19"/>
          <p:cNvGrpSpPr/>
          <p:nvPr/>
        </p:nvGrpSpPr>
        <p:grpSpPr>
          <a:xfrm>
            <a:off x="5840280" y="3873600"/>
            <a:ext cx="698760" cy="790560"/>
            <a:chOff x="5840280" y="3873600"/>
            <a:chExt cx="698760" cy="790560"/>
          </a:xfrm>
        </p:grpSpPr>
        <p:sp>
          <p:nvSpPr>
            <p:cNvPr id="539" name="Dreptunghi 20"/>
            <p:cNvSpPr/>
            <p:nvPr/>
          </p:nvSpPr>
          <p:spPr>
            <a:xfrm>
              <a:off x="5991120" y="4089240"/>
              <a:ext cx="354240" cy="274680"/>
            </a:xfrm>
            <a:prstGeom prst="rect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round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0" name="CasetăText 21"/>
            <p:cNvSpPr/>
            <p:nvPr/>
          </p:nvSpPr>
          <p:spPr>
            <a:xfrm>
              <a:off x="5840280" y="3873600"/>
              <a:ext cx="698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index</a:t>
              </a:r>
              <a:endParaRPr b="0" lang="en-US" sz="11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cxnSp>
          <p:nvCxnSpPr>
            <p:cNvPr id="541" name="Conector drept cu săgeată 22"/>
            <p:cNvCxnSpPr>
              <a:stCxn id="539" idx="2"/>
            </p:cNvCxnSpPr>
            <p:nvPr/>
          </p:nvCxnSpPr>
          <p:spPr>
            <a:xfrm>
              <a:off x="6166440" y="4363920"/>
              <a:ext cx="6840" cy="30060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arrow" w="med"/>
            </a:ln>
          </p:spPr>
        </p:cxnSp>
      </p:grpSp>
      <p:grpSp>
        <p:nvGrpSpPr>
          <p:cNvPr id="542" name="Grupare 24"/>
          <p:cNvGrpSpPr/>
          <p:nvPr/>
        </p:nvGrpSpPr>
        <p:grpSpPr>
          <a:xfrm>
            <a:off x="6281640" y="3873600"/>
            <a:ext cx="696960" cy="790560"/>
            <a:chOff x="6281640" y="3873600"/>
            <a:chExt cx="696960" cy="790560"/>
          </a:xfrm>
        </p:grpSpPr>
        <p:sp>
          <p:nvSpPr>
            <p:cNvPr id="543" name="Dreptunghi 25"/>
            <p:cNvSpPr/>
            <p:nvPr/>
          </p:nvSpPr>
          <p:spPr>
            <a:xfrm>
              <a:off x="6432480" y="4089240"/>
              <a:ext cx="352440" cy="274680"/>
            </a:xfrm>
            <a:prstGeom prst="rect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round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4" name="CasetăText 26"/>
            <p:cNvSpPr/>
            <p:nvPr/>
          </p:nvSpPr>
          <p:spPr>
            <a:xfrm>
              <a:off x="6281640" y="3873600"/>
              <a:ext cx="696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index</a:t>
              </a:r>
              <a:endParaRPr b="0" lang="en-US" sz="11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cxnSp>
          <p:nvCxnSpPr>
            <p:cNvPr id="545" name="Conector drept cu săgeată 27"/>
            <p:cNvCxnSpPr>
              <a:stCxn id="543" idx="2"/>
            </p:cNvCxnSpPr>
            <p:nvPr/>
          </p:nvCxnSpPr>
          <p:spPr>
            <a:xfrm>
              <a:off x="6607440" y="4363920"/>
              <a:ext cx="5400" cy="30060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arrow" w="med"/>
            </a:ln>
          </p:spPr>
        </p:cxnSp>
      </p:grpSp>
      <p:grpSp>
        <p:nvGrpSpPr>
          <p:cNvPr id="546" name="Grupare 29"/>
          <p:cNvGrpSpPr/>
          <p:nvPr/>
        </p:nvGrpSpPr>
        <p:grpSpPr>
          <a:xfrm>
            <a:off x="6721560" y="3873600"/>
            <a:ext cx="698400" cy="790560"/>
            <a:chOff x="6721560" y="3873600"/>
            <a:chExt cx="698400" cy="790560"/>
          </a:xfrm>
        </p:grpSpPr>
        <p:sp>
          <p:nvSpPr>
            <p:cNvPr id="547" name="Dreptunghi 30"/>
            <p:cNvSpPr/>
            <p:nvPr/>
          </p:nvSpPr>
          <p:spPr>
            <a:xfrm>
              <a:off x="6872400" y="4089240"/>
              <a:ext cx="353880" cy="274680"/>
            </a:xfrm>
            <a:prstGeom prst="rect">
              <a:avLst/>
            </a:prstGeom>
            <a:solidFill>
              <a:srgbClr val="00b050"/>
            </a:solidFill>
            <a:ln w="9360">
              <a:solidFill>
                <a:srgbClr val="000000"/>
              </a:solidFill>
              <a:round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48" name="CasetăText 31"/>
            <p:cNvSpPr/>
            <p:nvPr/>
          </p:nvSpPr>
          <p:spPr>
            <a:xfrm>
              <a:off x="6721560" y="3873600"/>
              <a:ext cx="698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Courier New"/>
                  <a:ea typeface="ＭＳ Ｐゴシック"/>
                </a:rPr>
                <a:t>index</a:t>
              </a:r>
              <a:endParaRPr b="0" lang="en-US" sz="11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cxnSp>
          <p:nvCxnSpPr>
            <p:cNvPr id="549" name="Conector drept cu săgeată 32"/>
            <p:cNvCxnSpPr>
              <a:stCxn id="547" idx="2"/>
            </p:cNvCxnSpPr>
            <p:nvPr/>
          </p:nvCxnSpPr>
          <p:spPr>
            <a:xfrm>
              <a:off x="7047360" y="4363920"/>
              <a:ext cx="6840" cy="30060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  <a:tailEnd len="med" type="arrow" w="med"/>
            </a:ln>
          </p:spPr>
        </p:cxnSp>
      </p:grpSp>
      <p:pic>
        <p:nvPicPr>
          <p:cNvPr id="550" name="Grupare 34" descr=""/>
          <p:cNvPicPr/>
          <p:nvPr/>
        </p:nvPicPr>
        <p:blipFill>
          <a:blip r:embed="rId1"/>
          <a:stretch/>
        </p:blipFill>
        <p:spPr>
          <a:xfrm>
            <a:off x="7162920" y="3870360"/>
            <a:ext cx="695160" cy="8967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2" descr=""/>
          <p:cNvPicPr/>
          <p:nvPr/>
        </p:nvPicPr>
        <p:blipFill>
          <a:blip r:embed="rId2"/>
          <a:stretch/>
        </p:blipFill>
        <p:spPr>
          <a:xfrm>
            <a:off x="4457880" y="4672080"/>
            <a:ext cx="3792240" cy="592200"/>
          </a:xfrm>
          <a:prstGeom prst="rect">
            <a:avLst/>
          </a:prstGeom>
          <a:ln w="0">
            <a:noFill/>
          </a:ln>
        </p:spPr>
      </p:pic>
      <p:pic>
        <p:nvPicPr>
          <p:cNvPr id="552" name="Grupare 41" descr=""/>
          <p:cNvPicPr/>
          <p:nvPr/>
        </p:nvPicPr>
        <p:blipFill>
          <a:blip r:embed="rId3"/>
          <a:stretch/>
        </p:blipFill>
        <p:spPr>
          <a:xfrm>
            <a:off x="7639200" y="3859200"/>
            <a:ext cx="699840" cy="895320"/>
          </a:xfrm>
          <a:prstGeom prst="rect">
            <a:avLst/>
          </a:prstGeom>
          <a:ln w="0">
            <a:noFill/>
          </a:ln>
        </p:spPr>
      </p:pic>
      <p:sp>
        <p:nvSpPr>
          <p:cNvPr id="553" name="CasetăText 46"/>
          <p:cNvSpPr/>
          <p:nvPr/>
        </p:nvSpPr>
        <p:spPr>
          <a:xfrm>
            <a:off x="914400" y="3349800"/>
            <a:ext cx="3984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omic Sans MS"/>
                <a:ea typeface="ＭＳ Ｐゴシック"/>
              </a:rPr>
              <a:t>//se citeste vectorul si nr. cautat…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b050"/>
                </a:solidFill>
                <a:latin typeface="Comic Sans MS"/>
                <a:ea typeface="ＭＳ Ｐゴシック"/>
              </a:rPr>
              <a:t>i=</a:t>
            </a:r>
            <a:r>
              <a:rPr b="0" lang="en-US" sz="1800" spc="-1" strike="noStrike">
                <a:solidFill>
                  <a:srgbClr val="00b050"/>
                </a:solidFill>
                <a:latin typeface="Comic Sans MS"/>
                <a:ea typeface="ＭＳ Ｐゴシック"/>
              </a:rPr>
              <a:t>0</a:t>
            </a:r>
            <a:r>
              <a:rPr b="0" lang="ro-RO" sz="1800" spc="-1" strike="noStrike">
                <a:solidFill>
                  <a:srgbClr val="00b050"/>
                </a:solidFill>
                <a:latin typeface="Comic Sans MS"/>
                <a:ea typeface="ＭＳ Ｐゴシック"/>
              </a:rPr>
              <a:t>;</a:t>
            </a:r>
            <a:r>
              <a:rPr b="0" lang="en-US" sz="1800" spc="-1" strike="noStrike">
                <a:solidFill>
                  <a:srgbClr val="00b050"/>
                </a:solidFill>
                <a:latin typeface="Comic Sans MS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omic Sans MS"/>
                <a:ea typeface="ＭＳ Ｐゴシック"/>
              </a:rPr>
              <a:t>a[n]=x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omic Sans MS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b050"/>
                </a:solidFill>
                <a:latin typeface="Comic Sans MS"/>
                <a:ea typeface="ＭＳ Ｐゴシック"/>
              </a:rPr>
              <a:t>while (a[i]!=x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800" spc="-1" strike="noStrike">
                <a:solidFill>
                  <a:srgbClr val="00b050"/>
                </a:solidFill>
                <a:latin typeface="Comic Sans MS"/>
                <a:ea typeface="ＭＳ Ｐゴシック"/>
              </a:rPr>
              <a:t>	</a:t>
            </a:r>
            <a:r>
              <a:rPr b="0" lang="nn-NO" sz="1800" spc="-1" strike="noStrike">
                <a:solidFill>
                  <a:srgbClr val="00b050"/>
                </a:solidFill>
                <a:latin typeface="Comic Sans MS"/>
                <a:ea typeface="ＭＳ Ｐゴシック"/>
              </a:rPr>
              <a:t>i++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omic Sans MS"/>
                <a:ea typeface="ＭＳ Ｐゴシック"/>
              </a:rPr>
              <a:t>if </a:t>
            </a:r>
            <a:r>
              <a:rPr b="1" lang="en-US" sz="1800" spc="-1" strike="noStrike">
                <a:solidFill>
                  <a:srgbClr val="00b050"/>
                </a:solidFill>
                <a:latin typeface="Comic Sans MS"/>
                <a:ea typeface="ＭＳ Ｐゴシック"/>
              </a:rPr>
              <a:t>(</a:t>
            </a:r>
            <a:r>
              <a:rPr b="1" lang="en-US" sz="1800" spc="-1" strike="noStrike">
                <a:solidFill>
                  <a:srgbClr val="00b050"/>
                </a:solidFill>
                <a:latin typeface="Courier New"/>
                <a:ea typeface="ＭＳ Ｐゴシック"/>
              </a:rPr>
              <a:t>i!=n</a:t>
            </a:r>
            <a:r>
              <a:rPr b="1" lang="en-US" sz="1800" spc="-1" strike="noStrike">
                <a:solidFill>
                  <a:srgbClr val="00b050"/>
                </a:solidFill>
                <a:latin typeface="Comic Sans MS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omic Sans MS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b050"/>
                </a:solidFill>
                <a:latin typeface="Comic Sans MS"/>
                <a:ea typeface="ＭＳ Ｐゴシック"/>
              </a:rPr>
              <a:t>cout&lt;&lt;“Nr. are indexul ”&lt;&lt;i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omic Sans MS"/>
                <a:ea typeface="ＭＳ Ｐゴシック"/>
              </a:rPr>
              <a:t>  </a:t>
            </a:r>
            <a:r>
              <a:rPr b="0" lang="ro-RO" sz="1800" spc="-1" strike="noStrike">
                <a:solidFill>
                  <a:srgbClr val="00b050"/>
                </a:solidFill>
                <a:latin typeface="Comic Sans MS"/>
                <a:ea typeface="ＭＳ Ｐゴシック"/>
              </a:rPr>
              <a:t>else </a:t>
            </a:r>
            <a:r>
              <a:rPr b="0" lang="en-US" sz="1800" spc="-1" strike="noStrike">
                <a:solidFill>
                  <a:srgbClr val="00b050"/>
                </a:solidFill>
                <a:latin typeface="Comic Sans MS"/>
                <a:ea typeface="ＭＳ Ｐゴシック"/>
              </a:rPr>
              <a:t>cout&lt;&lt;“Nr. nu este in vector“;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54" name="Titlu 3" descr=""/>
          <p:cNvPicPr/>
          <p:nvPr/>
        </p:nvPicPr>
        <p:blipFill>
          <a:blip r:embed="rId4"/>
          <a:stretch/>
        </p:blipFill>
        <p:spPr>
          <a:xfrm>
            <a:off x="0" y="291960"/>
            <a:ext cx="9144000" cy="755640"/>
          </a:xfrm>
          <a:prstGeom prst="rect">
            <a:avLst/>
          </a:prstGeom>
          <a:ln w="0">
            <a:noFill/>
          </a:ln>
        </p:spPr>
      </p:pic>
      <p:grpSp>
        <p:nvGrpSpPr>
          <p:cNvPr id="555" name="Buton acțiune: Începere 56"/>
          <p:cNvGrpSpPr/>
          <p:nvPr/>
        </p:nvGrpSpPr>
        <p:grpSpPr>
          <a:xfrm>
            <a:off x="7443720" y="6083280"/>
            <a:ext cx="932040" cy="542880"/>
            <a:chOff x="7443720" y="6083280"/>
            <a:chExt cx="932040" cy="542880"/>
          </a:xfrm>
        </p:grpSpPr>
        <p:pic>
          <p:nvPicPr>
            <p:cNvPr id="556" name="Buton acțiune: Începere 56" descr="">
              <a:hlinkClick r:id="" action="ppaction://hlinkshowjump?jump=firstslide"/>
            </p:cNvPr>
            <p:cNvPicPr/>
            <p:nvPr/>
          </p:nvPicPr>
          <p:blipFill>
            <a:blip r:embed="rId5"/>
            <a:stretch/>
          </p:blipFill>
          <p:spPr>
            <a:xfrm>
              <a:off x="7443720" y="6083280"/>
              <a:ext cx="93204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/>
            <p:nvPr/>
          </p:nvSpPr>
          <p:spPr>
            <a:xfrm>
              <a:off x="7497720" y="6113520"/>
              <a:ext cx="8240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4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75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3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90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8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9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0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7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14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5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omic Sans MS"/>
              </a:rPr>
              <a:t>3.  </a:t>
            </a:r>
            <a:r>
              <a:rPr b="1" lang="ro-RO" sz="2000" spc="-1" strike="noStrike">
                <a:solidFill>
                  <a:srgbClr val="00b050"/>
                </a:solidFill>
                <a:latin typeface="Comic Sans MS"/>
              </a:rPr>
              <a:t>Căutarea binară (logaritmică)</a:t>
            </a:r>
            <a:br>
              <a:rPr sz="2000"/>
            </a:br>
            <a:endParaRPr b="0" lang="en-US" sz="2000" spc="-1" strike="noStrike">
              <a:solidFill>
                <a:srgbClr val="4d4d4d"/>
              </a:solidFill>
              <a:latin typeface="Comic Sans MS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609480" y="679320"/>
            <a:ext cx="7777440" cy="154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Principiul de functionare</a:t>
            </a: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: 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 da o valoare x si un vector sortat a[]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Daca x se gaseste in vectorul a[], sa se indice pozitia la care 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e afla. 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Elementul cautat 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: x= 22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560" name="Grupare 9"/>
          <p:cNvGrpSpPr/>
          <p:nvPr/>
        </p:nvGrpSpPr>
        <p:grpSpPr>
          <a:xfrm>
            <a:off x="3611520" y="1900080"/>
            <a:ext cx="4942080" cy="1492560"/>
            <a:chOff x="3611520" y="1900080"/>
            <a:chExt cx="4942080" cy="1492560"/>
          </a:xfrm>
        </p:grpSpPr>
        <p:pic>
          <p:nvPicPr>
            <p:cNvPr id="561" name="Picture 2" descr=""/>
            <p:cNvPicPr/>
            <p:nvPr/>
          </p:nvPicPr>
          <p:blipFill>
            <a:blip r:embed="rId1"/>
            <a:stretch/>
          </p:blipFill>
          <p:spPr>
            <a:xfrm>
              <a:off x="3647160" y="2058120"/>
              <a:ext cx="4906440" cy="133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CasetăText 4"/>
            <p:cNvSpPr/>
            <p:nvPr/>
          </p:nvSpPr>
          <p:spPr>
            <a:xfrm>
              <a:off x="3611520" y="1900080"/>
              <a:ext cx="567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prim</a:t>
              </a:r>
              <a:endParaRPr b="0" lang="en-US" sz="11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3" name="CasetăText 5"/>
            <p:cNvSpPr/>
            <p:nvPr/>
          </p:nvSpPr>
          <p:spPr>
            <a:xfrm>
              <a:off x="4145760" y="1913400"/>
              <a:ext cx="567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1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mijl</a:t>
              </a:r>
              <a:endParaRPr b="0" lang="en-US" sz="11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64" name="CasetăText 6"/>
            <p:cNvSpPr/>
            <p:nvPr/>
          </p:nvSpPr>
          <p:spPr>
            <a:xfrm>
              <a:off x="4630320" y="1900080"/>
              <a:ext cx="567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1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ultim</a:t>
              </a:r>
              <a:endParaRPr b="0" lang="en-US" sz="11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65" name="Grupare 24"/>
          <p:cNvGrpSpPr/>
          <p:nvPr/>
        </p:nvGrpSpPr>
        <p:grpSpPr>
          <a:xfrm>
            <a:off x="1247760" y="3395520"/>
            <a:ext cx="4915080" cy="1489320"/>
            <a:chOff x="1247760" y="3395520"/>
            <a:chExt cx="4915080" cy="1489320"/>
          </a:xfrm>
        </p:grpSpPr>
        <p:grpSp>
          <p:nvGrpSpPr>
            <p:cNvPr id="566" name="Grupare 16"/>
            <p:cNvGrpSpPr/>
            <p:nvPr/>
          </p:nvGrpSpPr>
          <p:grpSpPr>
            <a:xfrm>
              <a:off x="1247760" y="3395520"/>
              <a:ext cx="4915080" cy="1489320"/>
              <a:chOff x="1247760" y="3395520"/>
              <a:chExt cx="4915080" cy="1489320"/>
            </a:xfrm>
          </p:grpSpPr>
          <p:pic>
            <p:nvPicPr>
              <p:cNvPr id="567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1247760" y="3523680"/>
                <a:ext cx="4915080" cy="136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8" name="CasetăText 10"/>
              <p:cNvSpPr/>
              <p:nvPr/>
            </p:nvSpPr>
            <p:spPr>
              <a:xfrm>
                <a:off x="3649320" y="3404880"/>
                <a:ext cx="567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prim</a:t>
                </a:r>
                <a:endParaRPr b="0" lang="en-US" sz="11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69" name="CasetăText 11"/>
              <p:cNvSpPr/>
              <p:nvPr/>
            </p:nvSpPr>
            <p:spPr>
              <a:xfrm>
                <a:off x="4160520" y="3395520"/>
                <a:ext cx="567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1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mijl</a:t>
                </a:r>
                <a:endParaRPr b="0" lang="en-US" sz="11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70" name="CasetăText 12"/>
              <p:cNvSpPr/>
              <p:nvPr/>
            </p:nvSpPr>
            <p:spPr>
              <a:xfrm>
                <a:off x="4610160" y="3416400"/>
                <a:ext cx="567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1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ultim</a:t>
                </a:r>
                <a:endParaRPr b="0" lang="en-US" sz="11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571" name="Conector drept 23"/>
            <p:cNvSpPr/>
            <p:nvPr/>
          </p:nvSpPr>
          <p:spPr>
            <a:xfrm>
              <a:off x="1274400" y="4675680"/>
              <a:ext cx="241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72" name="Grupare 29"/>
          <p:cNvGrpSpPr/>
          <p:nvPr/>
        </p:nvGrpSpPr>
        <p:grpSpPr>
          <a:xfrm>
            <a:off x="1279440" y="4967280"/>
            <a:ext cx="4896000" cy="1474920"/>
            <a:chOff x="1279440" y="4967280"/>
            <a:chExt cx="4896000" cy="1474920"/>
          </a:xfrm>
        </p:grpSpPr>
        <p:grpSp>
          <p:nvGrpSpPr>
            <p:cNvPr id="573" name="Grupare 20"/>
            <p:cNvGrpSpPr/>
            <p:nvPr/>
          </p:nvGrpSpPr>
          <p:grpSpPr>
            <a:xfrm>
              <a:off x="1279440" y="4967280"/>
              <a:ext cx="4896000" cy="1474920"/>
              <a:chOff x="1279440" y="4967280"/>
              <a:chExt cx="4896000" cy="1474920"/>
            </a:xfrm>
          </p:grpSpPr>
          <p:pic>
            <p:nvPicPr>
              <p:cNvPr id="574" name="Picture 4" descr=""/>
              <p:cNvPicPr/>
              <p:nvPr/>
            </p:nvPicPr>
            <p:blipFill>
              <a:blip r:embed="rId3"/>
              <a:stretch/>
            </p:blipFill>
            <p:spPr>
              <a:xfrm>
                <a:off x="1279440" y="5137560"/>
                <a:ext cx="4896000" cy="130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5" name="CasetăText 17"/>
              <p:cNvSpPr/>
              <p:nvPr/>
            </p:nvSpPr>
            <p:spPr>
              <a:xfrm>
                <a:off x="2826360" y="4967280"/>
                <a:ext cx="567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prim</a:t>
                </a:r>
                <a:endParaRPr b="0" lang="en-US" sz="11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76" name="CasetăText 18"/>
              <p:cNvSpPr/>
              <p:nvPr/>
            </p:nvSpPr>
            <p:spPr>
              <a:xfrm>
                <a:off x="3360960" y="4980600"/>
                <a:ext cx="567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1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mijl</a:t>
                </a:r>
                <a:endParaRPr b="0" lang="en-US" sz="11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  <p:sp>
            <p:nvSpPr>
              <p:cNvPr id="577" name="CasetăText 19"/>
              <p:cNvSpPr/>
              <p:nvPr/>
            </p:nvSpPr>
            <p:spPr>
              <a:xfrm>
                <a:off x="3845160" y="4967280"/>
                <a:ext cx="56700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sz="11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ultim</a:t>
                </a:r>
                <a:endParaRPr b="0" lang="en-US" sz="1100" spc="-1" strike="noStrike">
                  <a:solidFill>
                    <a:srgbClr val="000000"/>
                  </a:solidFill>
                  <a:latin typeface="Courier New"/>
                </a:endParaRPr>
              </a:p>
            </p:txBody>
          </p:sp>
        </p:grpSp>
        <p:sp>
          <p:nvSpPr>
            <p:cNvPr id="578" name="Conector drept 26"/>
            <p:cNvSpPr/>
            <p:nvPr/>
          </p:nvSpPr>
          <p:spPr>
            <a:xfrm>
              <a:off x="1284840" y="6284880"/>
              <a:ext cx="2419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79" name="Conector drept 28"/>
            <p:cNvSpPr/>
            <p:nvPr/>
          </p:nvSpPr>
          <p:spPr>
            <a:xfrm>
              <a:off x="4537800" y="6249960"/>
              <a:ext cx="1608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pic>
        <p:nvPicPr>
          <p:cNvPr id="580" name="Explicaţie în oval 7" descr=""/>
          <p:cNvPicPr/>
          <p:nvPr/>
        </p:nvPicPr>
        <p:blipFill>
          <a:blip r:embed="rId4"/>
          <a:stretch/>
        </p:blipFill>
        <p:spPr>
          <a:xfrm>
            <a:off x="6059520" y="3303720"/>
            <a:ext cx="1200240" cy="603000"/>
          </a:xfrm>
          <a:prstGeom prst="rect">
            <a:avLst/>
          </a:prstGeom>
          <a:ln w="0">
            <a:noFill/>
          </a:ln>
        </p:spPr>
      </p:pic>
      <p:pic>
        <p:nvPicPr>
          <p:cNvPr id="581" name="Explicaţie în oval 14" descr=""/>
          <p:cNvPicPr/>
          <p:nvPr/>
        </p:nvPicPr>
        <p:blipFill>
          <a:blip r:embed="rId5"/>
          <a:stretch/>
        </p:blipFill>
        <p:spPr>
          <a:xfrm>
            <a:off x="4516560" y="4821120"/>
            <a:ext cx="1201680" cy="604800"/>
          </a:xfrm>
          <a:prstGeom prst="rect">
            <a:avLst/>
          </a:prstGeom>
          <a:ln w="0">
            <a:noFill/>
          </a:ln>
        </p:spPr>
      </p:pic>
      <p:pic>
        <p:nvPicPr>
          <p:cNvPr id="582" name="Explicaţie în oval 21" descr=""/>
          <p:cNvPicPr/>
          <p:nvPr/>
        </p:nvPicPr>
        <p:blipFill>
          <a:blip r:embed="rId6"/>
          <a:stretch/>
        </p:blipFill>
        <p:spPr>
          <a:xfrm>
            <a:off x="3840120" y="6267600"/>
            <a:ext cx="1201680" cy="603000"/>
          </a:xfrm>
          <a:prstGeom prst="rect">
            <a:avLst/>
          </a:prstGeom>
          <a:ln w="0">
            <a:noFill/>
          </a:ln>
        </p:spPr>
      </p:pic>
      <p:pic>
        <p:nvPicPr>
          <p:cNvPr id="583" name="CasetăText 30" descr=""/>
          <p:cNvPicPr/>
          <p:nvPr/>
        </p:nvPicPr>
        <p:blipFill>
          <a:blip r:embed="rId7"/>
          <a:stretch/>
        </p:blipFill>
        <p:spPr>
          <a:xfrm>
            <a:off x="0" y="6540480"/>
            <a:ext cx="848520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5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370" dur="2000" fill="hold"/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372" dur="2000" fill="hold"/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79371E-006 L 1.11111E-006 -0.26226 E">
                                      <p:cBhvr>
                                        <p:cTn id="381" dur="2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649440" y="1476360"/>
            <a:ext cx="7842240" cy="78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Exemplul 2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 : </a:t>
            </a:r>
            <a:r>
              <a:rPr b="0" lang="ro-RO" sz="1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autarea binara a literei ‘j’ in siru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ro-RO" sz="1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har a[18]=“acdfghjlmoprsuvxz”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5" name="Rectangle 2"/>
          <p:cNvSpPr/>
          <p:nvPr/>
        </p:nvSpPr>
        <p:spPr>
          <a:xfrm>
            <a:off x="685800" y="1411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3.  </a:t>
            </a:r>
            <a:r>
              <a:rPr b="1" lang="ro-RO" sz="2800" spc="-1" strike="noStrike">
                <a:solidFill>
                  <a:srgbClr val="00b050"/>
                </a:solidFill>
                <a:latin typeface="Comic Sans MS"/>
              </a:rPr>
              <a:t>Căutarea binară (logaritmică)</a:t>
            </a:r>
            <a:endParaRPr b="0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86" name="Text Box 594" descr=""/>
          <p:cNvPicPr/>
          <p:nvPr/>
        </p:nvPicPr>
        <p:blipFill>
          <a:blip r:embed="rId1"/>
          <a:stretch/>
        </p:blipFill>
        <p:spPr>
          <a:xfrm>
            <a:off x="695160" y="3956040"/>
            <a:ext cx="7467840" cy="311040"/>
          </a:xfrm>
          <a:prstGeom prst="rect">
            <a:avLst/>
          </a:prstGeom>
          <a:ln w="0">
            <a:noFill/>
          </a:ln>
        </p:spPr>
      </p:pic>
      <p:sp>
        <p:nvSpPr>
          <p:cNvPr id="587" name="Line 598"/>
          <p:cNvSpPr/>
          <p:nvPr/>
        </p:nvSpPr>
        <p:spPr>
          <a:xfrm>
            <a:off x="1876320" y="3365640"/>
            <a:ext cx="0" cy="68580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8" name="CasetăText 15"/>
          <p:cNvSpPr/>
          <p:nvPr/>
        </p:nvSpPr>
        <p:spPr>
          <a:xfrm>
            <a:off x="1569960" y="3124080"/>
            <a:ext cx="658800" cy="3070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im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9" name="Line 596"/>
          <p:cNvSpPr/>
          <p:nvPr/>
        </p:nvSpPr>
        <p:spPr>
          <a:xfrm>
            <a:off x="6991200" y="3365640"/>
            <a:ext cx="0" cy="685800"/>
          </a:xfrm>
          <a:prstGeom prst="line">
            <a:avLst/>
          </a:prstGeom>
          <a:ln w="1908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0" name="CasetăText 16"/>
          <p:cNvSpPr/>
          <p:nvPr/>
        </p:nvSpPr>
        <p:spPr>
          <a:xfrm>
            <a:off x="6629400" y="3044880"/>
            <a:ext cx="808200" cy="3070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ltim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1" name="Line 600"/>
          <p:cNvSpPr/>
          <p:nvPr/>
        </p:nvSpPr>
        <p:spPr>
          <a:xfrm flipV="1">
            <a:off x="4433760" y="4254480"/>
            <a:ext cx="0" cy="533520"/>
          </a:xfrm>
          <a:prstGeom prst="line">
            <a:avLst/>
          </a:prstGeom>
          <a:ln w="190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2" name="CasetăText 17"/>
          <p:cNvSpPr/>
          <p:nvPr/>
        </p:nvSpPr>
        <p:spPr>
          <a:xfrm>
            <a:off x="4106880" y="4873680"/>
            <a:ext cx="658800" cy="3070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jl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1766880" y="4324320"/>
          <a:ext cx="5438880" cy="293760"/>
        </p:xfrm>
        <a:graphic>
          <a:graphicData uri="http://schemas.openxmlformats.org/drawingml/2006/table">
            <a:tbl>
              <a:tblPr/>
              <a:tblGrid>
                <a:gridCol w="254160"/>
                <a:gridCol w="301320"/>
                <a:gridCol w="335160"/>
                <a:gridCol w="290520"/>
                <a:gridCol w="357120"/>
                <a:gridCol w="325440"/>
                <a:gridCol w="299880"/>
                <a:gridCol w="336600"/>
                <a:gridCol w="346320"/>
                <a:gridCol w="266400"/>
                <a:gridCol w="324000"/>
                <a:gridCol w="324000"/>
                <a:gridCol w="358560"/>
                <a:gridCol w="324000"/>
                <a:gridCol w="312840"/>
                <a:gridCol w="312480"/>
                <a:gridCol w="370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0" y="87156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3.  </a:t>
            </a:r>
            <a:r>
              <a:rPr b="1" lang="ro-RO" sz="2800" spc="-1" strike="noStrike">
                <a:solidFill>
                  <a:srgbClr val="00b050"/>
                </a:solidFill>
                <a:latin typeface="Comic Sans MS"/>
              </a:rPr>
              <a:t>Cautarea binara (logaritmica)</a:t>
            </a:r>
            <a:br>
              <a:rPr sz="2800"/>
            </a:br>
            <a:endParaRPr b="0" lang="en-US" sz="2800" spc="-1" strike="noStrike">
              <a:solidFill>
                <a:srgbClr val="4d4d4d"/>
              </a:solidFill>
              <a:latin typeface="Comic Sans MS"/>
            </a:endParaRPr>
          </a:p>
        </p:txBody>
      </p:sp>
      <p:pic>
        <p:nvPicPr>
          <p:cNvPr id="595" name="Text Box 3" descr=""/>
          <p:cNvPicPr/>
          <p:nvPr/>
        </p:nvPicPr>
        <p:blipFill>
          <a:blip r:embed="rId1"/>
          <a:stretch/>
        </p:blipFill>
        <p:spPr>
          <a:xfrm>
            <a:off x="841320" y="3651120"/>
            <a:ext cx="7467480" cy="403200"/>
          </a:xfrm>
          <a:prstGeom prst="rect">
            <a:avLst/>
          </a:prstGeom>
          <a:ln w="0">
            <a:noFill/>
          </a:ln>
        </p:spPr>
      </p:pic>
      <p:grpSp>
        <p:nvGrpSpPr>
          <p:cNvPr id="596" name="Grupare 9"/>
          <p:cNvGrpSpPr/>
          <p:nvPr/>
        </p:nvGrpSpPr>
        <p:grpSpPr>
          <a:xfrm>
            <a:off x="1712880" y="2824200"/>
            <a:ext cx="660600" cy="925560"/>
            <a:chOff x="1712880" y="2824200"/>
            <a:chExt cx="660600" cy="925560"/>
          </a:xfrm>
        </p:grpSpPr>
        <p:sp>
          <p:nvSpPr>
            <p:cNvPr id="597" name="Line 598"/>
            <p:cNvSpPr/>
            <p:nvPr/>
          </p:nvSpPr>
          <p:spPr>
            <a:xfrm>
              <a:off x="2019960" y="3064320"/>
              <a:ext cx="0" cy="685440"/>
            </a:xfrm>
            <a:prstGeom prst="line">
              <a:avLst/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98" name="CasetăText 11"/>
            <p:cNvSpPr/>
            <p:nvPr/>
          </p:nvSpPr>
          <p:spPr>
            <a:xfrm>
              <a:off x="1712880" y="2824200"/>
              <a:ext cx="660600" cy="3070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prim</a:t>
              </a:r>
              <a:endParaRPr b="0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599" name="Grupare 12"/>
          <p:cNvGrpSpPr/>
          <p:nvPr/>
        </p:nvGrpSpPr>
        <p:grpSpPr>
          <a:xfrm>
            <a:off x="4203720" y="2744640"/>
            <a:ext cx="807840" cy="1005120"/>
            <a:chOff x="4203720" y="2744640"/>
            <a:chExt cx="807840" cy="1005120"/>
          </a:xfrm>
        </p:grpSpPr>
        <p:sp>
          <p:nvSpPr>
            <p:cNvPr id="600" name="Line 596"/>
            <p:cNvSpPr/>
            <p:nvPr/>
          </p:nvSpPr>
          <p:spPr>
            <a:xfrm>
              <a:off x="4566240" y="3063960"/>
              <a:ext cx="0" cy="685800"/>
            </a:xfrm>
            <a:prstGeom prst="line">
              <a:avLst/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1" name="CasetăText 14"/>
            <p:cNvSpPr/>
            <p:nvPr/>
          </p:nvSpPr>
          <p:spPr>
            <a:xfrm>
              <a:off x="4203720" y="2744640"/>
              <a:ext cx="807840" cy="3070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ultim</a:t>
              </a:r>
              <a:endParaRPr b="0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02" name="Grupare 15"/>
          <p:cNvGrpSpPr/>
          <p:nvPr/>
        </p:nvGrpSpPr>
        <p:grpSpPr>
          <a:xfrm>
            <a:off x="2941560" y="3965400"/>
            <a:ext cx="660600" cy="926280"/>
            <a:chOff x="2941560" y="3965400"/>
            <a:chExt cx="660600" cy="926280"/>
          </a:xfrm>
        </p:grpSpPr>
        <p:sp>
          <p:nvSpPr>
            <p:cNvPr id="603" name="Line 600"/>
            <p:cNvSpPr/>
            <p:nvPr/>
          </p:nvSpPr>
          <p:spPr>
            <a:xfrm flipV="1">
              <a:off x="3268800" y="3965400"/>
              <a:ext cx="0" cy="53352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04" name="CasetăText 17"/>
            <p:cNvSpPr/>
            <p:nvPr/>
          </p:nvSpPr>
          <p:spPr>
            <a:xfrm>
              <a:off x="2941560" y="4584600"/>
              <a:ext cx="660600" cy="3070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mijl</a:t>
              </a:r>
              <a:endParaRPr b="0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aphicFrame>
        <p:nvGraphicFramePr>
          <p:cNvPr id="605" name=""/>
          <p:cNvGraphicFramePr/>
          <p:nvPr/>
        </p:nvGraphicFramePr>
        <p:xfrm>
          <a:off x="1909800" y="4024440"/>
          <a:ext cx="5440320" cy="293400"/>
        </p:xfrm>
        <a:graphic>
          <a:graphicData uri="http://schemas.openxmlformats.org/drawingml/2006/table">
            <a:tbl>
              <a:tblPr/>
              <a:tblGrid>
                <a:gridCol w="253800"/>
                <a:gridCol w="301680"/>
                <a:gridCol w="335160"/>
                <a:gridCol w="290520"/>
                <a:gridCol w="358560"/>
                <a:gridCol w="324000"/>
                <a:gridCol w="301680"/>
                <a:gridCol w="334800"/>
                <a:gridCol w="347760"/>
                <a:gridCol w="264960"/>
                <a:gridCol w="325440"/>
                <a:gridCol w="324000"/>
                <a:gridCol w="358920"/>
                <a:gridCol w="323640"/>
                <a:gridCol w="312840"/>
                <a:gridCol w="312840"/>
                <a:gridCol w="369720"/>
              </a:tblGrid>
              <a:tr h="293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0" y="87156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3.  </a:t>
            </a:r>
            <a:r>
              <a:rPr b="1" lang="ro-RO" sz="3200" spc="-1" strike="noStrike">
                <a:solidFill>
                  <a:srgbClr val="00b050"/>
                </a:solidFill>
                <a:latin typeface="Comic Sans MS"/>
              </a:rPr>
              <a:t>Căutarea binară (logaritmică)</a:t>
            </a:r>
            <a:br>
              <a:rPr sz="3200"/>
            </a:br>
            <a:endParaRPr b="0" lang="en-US" sz="3200" spc="-1" strike="noStrike">
              <a:solidFill>
                <a:srgbClr val="4d4d4d"/>
              </a:solidFill>
              <a:latin typeface="Comic Sans MS"/>
            </a:endParaRPr>
          </a:p>
        </p:txBody>
      </p:sp>
      <p:pic>
        <p:nvPicPr>
          <p:cNvPr id="607" name="Text Box 3" descr=""/>
          <p:cNvPicPr/>
          <p:nvPr/>
        </p:nvPicPr>
        <p:blipFill>
          <a:blip r:embed="rId1"/>
          <a:stretch/>
        </p:blipFill>
        <p:spPr>
          <a:xfrm>
            <a:off x="841320" y="3651120"/>
            <a:ext cx="7467480" cy="403200"/>
          </a:xfrm>
          <a:prstGeom prst="rect">
            <a:avLst/>
          </a:prstGeom>
          <a:ln w="0">
            <a:noFill/>
          </a:ln>
        </p:spPr>
      </p:pic>
      <p:grpSp>
        <p:nvGrpSpPr>
          <p:cNvPr id="608" name="Grupare 4"/>
          <p:cNvGrpSpPr/>
          <p:nvPr/>
        </p:nvGrpSpPr>
        <p:grpSpPr>
          <a:xfrm>
            <a:off x="3298680" y="2881440"/>
            <a:ext cx="660600" cy="927000"/>
            <a:chOff x="3298680" y="2881440"/>
            <a:chExt cx="660600" cy="927000"/>
          </a:xfrm>
        </p:grpSpPr>
        <p:sp>
          <p:nvSpPr>
            <p:cNvPr id="609" name="Line 598"/>
            <p:cNvSpPr/>
            <p:nvPr/>
          </p:nvSpPr>
          <p:spPr>
            <a:xfrm>
              <a:off x="3605760" y="3121920"/>
              <a:ext cx="0" cy="686520"/>
            </a:xfrm>
            <a:prstGeom prst="line">
              <a:avLst/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0" name="CasetăText 6"/>
            <p:cNvSpPr/>
            <p:nvPr/>
          </p:nvSpPr>
          <p:spPr>
            <a:xfrm>
              <a:off x="3298680" y="2881440"/>
              <a:ext cx="660600" cy="3070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prim</a:t>
              </a:r>
              <a:endParaRPr b="0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11" name="Grupare 7"/>
          <p:cNvGrpSpPr/>
          <p:nvPr/>
        </p:nvGrpSpPr>
        <p:grpSpPr>
          <a:xfrm>
            <a:off x="4203720" y="2744640"/>
            <a:ext cx="807840" cy="1005120"/>
            <a:chOff x="4203720" y="2744640"/>
            <a:chExt cx="807840" cy="1005120"/>
          </a:xfrm>
        </p:grpSpPr>
        <p:sp>
          <p:nvSpPr>
            <p:cNvPr id="612" name="Line 596"/>
            <p:cNvSpPr/>
            <p:nvPr/>
          </p:nvSpPr>
          <p:spPr>
            <a:xfrm>
              <a:off x="4566240" y="3063960"/>
              <a:ext cx="0" cy="685800"/>
            </a:xfrm>
            <a:prstGeom prst="line">
              <a:avLst/>
            </a:prstGeom>
            <a:ln w="1908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3" name="CasetăText 9"/>
            <p:cNvSpPr/>
            <p:nvPr/>
          </p:nvSpPr>
          <p:spPr>
            <a:xfrm>
              <a:off x="4203720" y="2744640"/>
              <a:ext cx="807840" cy="3070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ultim</a:t>
              </a:r>
              <a:endParaRPr b="0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614" name="Grupare 10"/>
          <p:cNvGrpSpPr/>
          <p:nvPr/>
        </p:nvGrpSpPr>
        <p:grpSpPr>
          <a:xfrm>
            <a:off x="3602160" y="3908520"/>
            <a:ext cx="658800" cy="926280"/>
            <a:chOff x="3602160" y="3908520"/>
            <a:chExt cx="658800" cy="926280"/>
          </a:xfrm>
        </p:grpSpPr>
        <p:sp>
          <p:nvSpPr>
            <p:cNvPr id="615" name="Line 600"/>
            <p:cNvSpPr/>
            <p:nvPr/>
          </p:nvSpPr>
          <p:spPr>
            <a:xfrm flipV="1">
              <a:off x="3928680" y="3908520"/>
              <a:ext cx="0" cy="53352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616" name="CasetăText 12"/>
            <p:cNvSpPr/>
            <p:nvPr/>
          </p:nvSpPr>
          <p:spPr>
            <a:xfrm>
              <a:off x="3602160" y="4527720"/>
              <a:ext cx="658800" cy="3070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mijl</a:t>
              </a:r>
              <a:endParaRPr b="0" lang="en-US" sz="1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aphicFrame>
        <p:nvGraphicFramePr>
          <p:cNvPr id="617" name=""/>
          <p:cNvGraphicFramePr/>
          <p:nvPr/>
        </p:nvGraphicFramePr>
        <p:xfrm>
          <a:off x="1909800" y="4024440"/>
          <a:ext cx="5440320" cy="293400"/>
        </p:xfrm>
        <a:graphic>
          <a:graphicData uri="http://schemas.openxmlformats.org/drawingml/2006/table">
            <a:tbl>
              <a:tblPr/>
              <a:tblGrid>
                <a:gridCol w="253800"/>
                <a:gridCol w="301680"/>
                <a:gridCol w="335160"/>
                <a:gridCol w="290520"/>
                <a:gridCol w="358560"/>
                <a:gridCol w="324000"/>
                <a:gridCol w="301680"/>
                <a:gridCol w="334800"/>
                <a:gridCol w="347760"/>
                <a:gridCol w="264960"/>
                <a:gridCol w="325440"/>
                <a:gridCol w="324000"/>
                <a:gridCol w="358920"/>
                <a:gridCol w="323640"/>
                <a:gridCol w="312840"/>
                <a:gridCol w="312840"/>
                <a:gridCol w="369720"/>
              </a:tblGrid>
              <a:tr h="293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595959"/>
                          </a:solidFill>
                          <a:latin typeface="Comic Sans MS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urier New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18" name="CasetăText 14" descr=""/>
          <p:cNvPicPr/>
          <p:nvPr/>
        </p:nvPicPr>
        <p:blipFill>
          <a:blip r:embed="rId2"/>
          <a:stretch/>
        </p:blipFill>
        <p:spPr>
          <a:xfrm>
            <a:off x="731880" y="5626080"/>
            <a:ext cx="814392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39685E-006 L -0.00122 -0.08025 E">
                                      <p:cBhvr>
                                        <p:cTn id="431" dur="2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7:28:24Z</dcterms:created>
  <dc:creator>Kevin Wayne</dc:creator>
  <dc:description/>
  <dc:language>en-US</dc:language>
  <cp:lastModifiedBy>Iulia</cp:lastModifiedBy>
  <dcterms:modified xsi:type="dcterms:W3CDTF">2015-03-10T12:06:07Z</dcterms:modified>
  <cp:revision>12</cp:revision>
  <dc:subject/>
  <dc:title>Binary Search</dc:title>
</cp:coreProperties>
</file>